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8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34.xml" ContentType="application/vnd.openxmlformats-officedocument.theme+xml"/>
  <Override PartName="/ppt/theme/theme46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99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1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6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</p:sldMasterIdLst>
  <p:sldIdLst>
    <p:sldId id="256" r:id="rId50"/>
    <p:sldId id="257" r:id="rId51"/>
    <p:sldId id="258" r:id="rId52"/>
    <p:sldId id="259" r:id="rId53"/>
    <p:sldId id="260" r:id="rId54"/>
    <p:sldId id="261" r:id="rId55"/>
    <p:sldId id="262" r:id="rId56"/>
    <p:sldId id="263" r:id="rId57"/>
    <p:sldId id="264" r:id="rId58"/>
    <p:sldId id="265" r:id="rId59"/>
    <p:sldId id="266" r:id="rId60"/>
    <p:sldId id="267" r:id="rId61"/>
    <p:sldId id="268" r:id="rId62"/>
    <p:sldId id="269" r:id="rId63"/>
    <p:sldId id="270" r:id="rId64"/>
    <p:sldId id="271" r:id="rId65"/>
    <p:sldId id="272" r:id="rId66"/>
    <p:sldId id="273" r:id="rId67"/>
    <p:sldId id="274" r:id="rId68"/>
    <p:sldId id="275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" Target="slides/slide1.xml"/><Relationship Id="rId51" Type="http://schemas.openxmlformats.org/officeDocument/2006/relationships/slide" Target="slides/slide2.xml"/><Relationship Id="rId52" Type="http://schemas.openxmlformats.org/officeDocument/2006/relationships/slide" Target="slides/slide3.xml"/><Relationship Id="rId53" Type="http://schemas.openxmlformats.org/officeDocument/2006/relationships/slide" Target="slides/slide4.xml"/><Relationship Id="rId54" Type="http://schemas.openxmlformats.org/officeDocument/2006/relationships/slide" Target="slides/slide5.xml"/><Relationship Id="rId55" Type="http://schemas.openxmlformats.org/officeDocument/2006/relationships/slide" Target="slides/slide6.xml"/><Relationship Id="rId56" Type="http://schemas.openxmlformats.org/officeDocument/2006/relationships/slide" Target="slides/slide7.xml"/><Relationship Id="rId57" Type="http://schemas.openxmlformats.org/officeDocument/2006/relationships/slide" Target="slides/slide8.xml"/><Relationship Id="rId58" Type="http://schemas.openxmlformats.org/officeDocument/2006/relationships/slide" Target="slides/slide9.xml"/><Relationship Id="rId59" Type="http://schemas.openxmlformats.org/officeDocument/2006/relationships/slide" Target="slides/slide10.xml"/><Relationship Id="rId60" Type="http://schemas.openxmlformats.org/officeDocument/2006/relationships/slide" Target="slides/slide11.xml"/><Relationship Id="rId61" Type="http://schemas.openxmlformats.org/officeDocument/2006/relationships/slide" Target="slides/slide12.xml"/><Relationship Id="rId62" Type="http://schemas.openxmlformats.org/officeDocument/2006/relationships/slide" Target="slides/slide13.xml"/><Relationship Id="rId63" Type="http://schemas.openxmlformats.org/officeDocument/2006/relationships/slide" Target="slides/slide14.xml"/><Relationship Id="rId64" Type="http://schemas.openxmlformats.org/officeDocument/2006/relationships/slide" Target="slides/slide15.xml"/><Relationship Id="rId65" Type="http://schemas.openxmlformats.org/officeDocument/2006/relationships/slide" Target="slides/slide16.xml"/><Relationship Id="rId66" Type="http://schemas.openxmlformats.org/officeDocument/2006/relationships/slide" Target="slides/slide17.xml"/><Relationship Id="rId67" Type="http://schemas.openxmlformats.org/officeDocument/2006/relationships/slide" Target="slides/slide18.xml"/><Relationship Id="rId68" Type="http://schemas.openxmlformats.org/officeDocument/2006/relationships/slide" Target="slides/slide19.xml"/><Relationship Id="rId69" Type="http://schemas.openxmlformats.org/officeDocument/2006/relationships/slide" Target="slides/slide20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6B5C5-FF21-431F-BCA6-4FC81C8C7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6AE85-1385-4184-824C-A9F94851E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479571-A608-4D55-840A-042390173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1D7772-945C-41AE-A68D-9E2BBCEF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3FA107-5451-42D9-A61E-DAA96AB47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F08BF1-CBF5-4714-B34E-DA178009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9BE812-0129-4217-88FB-A3AFF1E8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8A2AAF-B42D-4D00-BB6E-715D67D9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A0A2DB-36F9-4DFF-8553-20C83E7B4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CD7C8C-B042-4FC5-9E1F-D3F04984C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850020-DBDF-4324-BBC8-CC83C4AC0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A36302F-C0EB-460F-98A8-8531A8EB4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75E7A-8D0F-457C-8C57-E5224320E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3B1DDF5-05F4-4435-BF14-3C68B06E1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2E5CCD3-8150-49FA-A602-714E960C3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B0C58C6-1083-46DB-8428-657DEBF20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2F7247D-654D-4CDD-B482-5FE069CDE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0550A33-4C39-4D14-BDAF-14385FD53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9F8D360-A481-4580-9ADB-4A8C7C5C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19D865B-2E84-440A-881B-80036874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E11CDCB-7C31-4010-8563-B8949D19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DA71C57-21DD-4068-AFE8-964C10C2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0F16BFA-B7EB-4C60-99C8-8FB57AB56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C12E5-AF8D-497B-A4BC-EDD5152C4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32E2E1C-DEFF-4C9F-AD41-CD8A141DD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326E77B-C585-48F9-B7C6-8689D5848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A47BB78-D18C-4561-B69B-E101578B6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66A73C4-9DD5-4822-9E61-77C3EA72C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BBE734C-B8E5-4242-9F11-AF9F77EF8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8F3DC5D-AA10-482A-974F-B51D49E4F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6622987-5D8B-4FBF-A4F2-63994C015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AD9FB09-44C7-4CBB-A92F-13B353CB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6670162-E0CC-4E07-B041-0B4390FF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EA6FB78-4F68-48C3-B7B2-9C1A8213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4C88FA-4885-4B21-9211-B236FD246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18C528B-88EB-4AB1-94A5-19A6F1B47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9893B6B-F54B-414A-AAD1-A3BCD9175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2CD53E5-B0FD-44EA-A362-2B53434C0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65DA154-C0E6-4936-AB87-9E6E82C34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91DA130-D948-415F-A6B9-CBDB0548A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B4B0A0D-EB3B-4E4C-BBC4-8BE2D46F3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AC81443-4FB5-4895-AA3B-9C98CBFF7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B6EDC25-FCC4-44D1-8F94-3B380AC8C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A4B63E6-A935-441B-8075-054D9DB6D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6731A92-CB63-40A6-8F8D-D9AD9607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467053-492A-4D45-B259-2101121B7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1C0E755-4E94-48CB-A15C-88454461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CAC012E-9B5D-494E-A7E1-CB6596E9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3E58A27-0D24-4ECF-8CC6-4015A9DF9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95F7AFE-E53D-4DA8-B52A-BE61313EB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39F010B-549F-43EF-B843-670F0F68E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6663D61-C9E1-4D5B-8F43-61B899B68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BAA01D7-F23E-4D37-8D7C-CEAFB5CD4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2B9D616-53B2-415E-B7A1-7AEA10387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D5F5E7C-D834-48BC-88C3-AC88CF8B6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4619BA0-F9D4-4AF6-AFAC-56EE7520C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EADCB3-C8A8-46CB-9A58-1172BED44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12977BF-88B6-4546-8215-4E90CC61E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5EF9144-93B2-4F33-88A1-9ADEA430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D6BD446-415C-4CCF-8948-55137F56C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47F6D3F-0634-47EA-AEAA-770F1B77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1339875-0DF1-4D88-B19F-47D6A31FD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65D0C85-1F06-4FAE-A754-4565788A1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7A359C3-F7F2-4DAD-ADC7-33DCDE13F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31DEC50-F61B-4715-9211-2CB5B5D46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27B5E5D-C628-4237-8C2D-560A6068F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7470F8E-07B5-425A-B84B-28EF22942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7FF5EF-D4B3-4866-8B18-03C59A9C7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CAAAF72-C8FB-45AA-ADCF-395CA7F5B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D9E3AF6-B4CA-491D-87ED-008711315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C08F09C-3727-4AEC-84B5-57B541318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0E33C9F-8E06-45EA-8AA4-1283B7A4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A44E059-E81A-40AE-A647-6DFD019A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7EF7BBA-AAA2-48C1-9B65-8B4C7288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5E50BF7-DC88-4958-AFA6-5050EC1FA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A99DD2F-B22C-4842-B5DD-157234383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92A0DE0-9959-4B17-AAFA-0AB5FB4B3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BAB4AC4-F686-4CD1-A2A8-C8DAC18A4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DD698A-F640-4D95-86DB-89D66759F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1235034-FC2D-4AB5-8936-FB849F98A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663E3EF-2CDF-430F-851A-8C0868CEC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7E6C52B-F996-4823-A6AE-848F97B4C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C7D3079-854B-4ABB-AFEF-962ED1AF8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9D3DA55-02F7-4321-8F6C-9517829ED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E85E0CF-A83A-4518-8654-B77243DF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28D0920-80C7-4365-B5FF-5F553047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5FD0616-F38F-4CCA-A370-D632E1DF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B8C4C79-7620-4B7D-91F3-97B9A6C46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B0C24C8-7636-4E61-A0A9-F9E77B5F0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B6D0C0-C55A-4EDA-96C0-224725FD0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8920100-EA6D-4055-9DF0-97C5EAA1E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53F6E9-6CA2-4ADF-9EA5-7A774E927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9A17FA-2591-4263-A121-FC24B9690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F63440-403E-46CC-B239-702EE5639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CE04D8-B906-4627-9348-4BE4DE537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F2ACA7-FD6D-47AC-8713-A59766169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18EDE1-4A45-4D30-A8CC-D9287F158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222265-39F9-4DC6-8EA6-681586CD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E42A46-02C5-44B8-8E10-3C5F4631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AD089E-160F-44B6-94E6-4510193F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5B5D41-9D37-466E-9EF7-79D2B253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EF3886-56E2-4118-94F7-3AE7635C9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0133E8-3982-449D-9782-C5DDCB35B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E41EE7-F71E-4891-97B7-1C524B37E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9F23DEE-65E0-4A37-97A2-D9034ED8E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BFAEF98-4EC1-4D0D-9454-F2C3DE44F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EF87F09-9821-4304-AFEA-E87F4163C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A41F7F6-74A3-4C7F-825B-8655CA9B9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822B463-EA3C-4277-8028-5AF565AAB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FB8B48E-C7E8-429A-B9D7-53B5CEACE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DB24D53-9DDA-48C9-932C-D2F85C2B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780C9-5F03-40AC-9B66-5ACB34E1E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7DBB81-B98C-4C3C-8A31-2566F6B4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06E3FA1-C4F1-4548-8076-244FEE28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4801929-9CFA-4459-91B0-A73DBCE1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D8C6F2B-53E8-42D6-8641-5EDFC16B2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006D8D3-A744-45DD-B8BE-8802D7557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C43B7D9-77C9-4BD0-AE93-F1836DE47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3688118-DCCD-48C8-8B41-DA06D25D6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26DF1F8-904C-4C65-A40F-2965CC92B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9AEDDB7-3C34-4F27-A622-A9B888DA9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BD9DA51-8BA4-4D62-9990-9C0E1A8EE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2549BB2-578B-4604-98EB-0B7D3D9C0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16394E-D154-47B5-9AA1-27341F66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FC11CC5-8A16-46A1-824B-70A18ECC1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2F9B382-D422-4007-90FB-031ED246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8F682E4-6BF0-42EE-9B7F-BF8415D1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C45770B-B1F6-4730-9EA7-660E376C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9ED7035-E5C3-4DBA-8DB6-EBE477A43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B89B5C0-74B6-4123-806D-5E77B3773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92FF5CB-EB70-40D3-9597-B8BFAE0A6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4685526-39AC-4AFE-8D4E-3A069735B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A19AB1A-C8D2-4D16-8D42-829B256FB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587BEEE-F91C-4F07-9239-3346CFD6D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8787E5-E39F-4F87-8E2D-EDA383B47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791E032-2086-4457-A50C-0004A22F5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DF4B99D-DC82-43F6-B8E4-D977177FF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03016C5-D3A5-4435-A62F-EE8B0335F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DE5EDE7-B3EE-472C-8D29-267C1776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3178756-F959-415A-AC6E-7E751659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1B27E04-CA96-4ABC-90F1-92156AD8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BCBF161-BE29-4E98-9EA5-8C0C35355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0B3EB29-E32D-4E06-AD21-729C9B9AF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A07B65B-05DD-4AD5-89AB-0AE432FCB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E8A4ADF-24E2-448A-8DC3-EE9EF3D2B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F458F9-826A-46ED-ADC7-9D2D8D4AE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33EC910-F49A-4108-A4E7-87C3E998D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7072019-084A-4937-8BC9-8AA3A214E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821DFC52-ECF3-4864-A790-42919C5FA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B3F3BCE-CC00-4404-A305-2836FAF0F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0E6500B-0389-4B58-95A6-06BF16FD9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E53F8D9-5CC7-4849-9803-1F58DAEB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F0E7DBC-E8EC-457D-A3A3-7C336A42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81696BA-9E58-45C6-9412-69F4EA1C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190A79A-AF3F-4803-9BF7-D74124595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3969BD6-3B0E-4A0F-95A2-EF4A3E183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38F817-4EF2-4FA0-A6C6-396B35E97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AA4D351-2C8D-43EE-8B94-DC26ED09B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AB56B82-B679-40B1-8A8E-D703B5D51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B4898D2-8445-4734-BA2C-EAC12DAAC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2AA6356-E3C4-41E0-B8EE-C91034432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3865D5A-E9E8-480F-96C2-C60A23AF8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67FED04-8DFF-4226-BD14-7E2E6E630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5503FE7-FBB8-400C-98DD-0E74C156E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3E95D35-4C6C-4AEF-9A3A-F577E89B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249C307-FD36-402D-9F0F-CCA71BE3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D01DF89-3683-419F-B5B7-E128B4D3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20ADA8-03EF-4639-837A-D14349069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66A8285-5B9C-4C22-A38F-DAEBAD6D9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745AAAB-85CE-4ACA-ACB3-EED20D415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451ABAD-6F59-486A-942A-BFAE17AF1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7C37DCA4-2DB5-4998-BE86-F47CFD1E9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A535553-A54D-487D-9C1E-59C8F3AC3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457B483-0306-4658-B467-ADF0F8050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477EF02-B2CD-4CF7-8DB4-1F71F6AE9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13DAB49-7084-4E4E-89A7-99DB2FCE8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9578F65-3BB8-4306-9527-D5B75E018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E5326B9-8A46-4E38-8A2D-88C1C32E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182510-6E1C-4C3B-B618-4AE117E22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8A2EFD48-0CB8-4F4A-8ACD-D8CBB5F8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24FC7A4-A7C4-481D-985D-CF3D412E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47AF840-3935-4CBC-AB0E-23D4692A1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C690442-C2FC-4BB5-A3D7-DF5041B13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07CE8F16-29E8-4DD7-B396-155472B8D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86BB78E-825A-40A1-9488-36C158DF1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5DC1880-0B95-430E-93C3-B91AC238C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7CF77BB-2F8D-474C-8D53-D4A739321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06277B7-F7C6-4CB3-8547-1824A5773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E1D5E94-7199-4548-8598-CC60F4050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7DABEE-B19D-4F6C-A6F4-066F29B34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39F1069-EBBD-45E5-8333-7F8142246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D23050A-1DF5-434A-B961-D4B73605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5301C1D-D6D4-4767-8E71-83ABF95B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44596D5-1154-419B-BD82-6999784A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3B239AE-4001-4C62-B9B1-549439B0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BF6F39E-AE54-42D6-96C2-29D82E457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D34F1DB-0DA1-47BC-B5EC-945E17A47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9D28212-2716-473F-BBFB-AA2D74FFB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6FF0EAA-94E0-4340-8F91-7C5F7882D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A83FA0C-E607-4D3F-8A1B-5409B544E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23EB90-3F94-463A-92C1-B83CCC922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466A88E-6E6C-46D1-B165-1EF03419F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0F10790-4741-4BE8-A1C0-6C5E46895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BACE2B6-2FA6-4140-BE08-53F62D930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C57210AB-7925-49AB-A5A1-1D456A82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EBB4CF7-1C3A-4F7D-B477-7A245146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CECB7F9-62D2-4A47-9BDE-9E6BFFA3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73A56FD-033B-4791-9969-4A522DCFB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98DE351-F1E2-4660-8F88-3A554A4D0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73A1502-3505-4BE1-AAC6-1EF78A38C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9CA4BE3-6765-4440-96D8-241761B64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C6B31D-AA96-4E0B-97A4-81C6CB32C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D88D329-98A9-40EF-BE0B-C9F5558B6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E66F9A3-ED39-488F-8620-8068B7A13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2172E6E-EE28-4A5D-A20C-9E34FC7E0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C07E2AF-4EBE-4577-B935-7E602588E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29414F6-9BB4-485C-9F5D-5DD42BB6C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1961442-C07D-4FAB-841E-789750A7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9D05A9C-1840-4EFA-98FE-12ECBF31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6502F20-1273-4C40-AF0E-E228E568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D32A007-3C38-42DA-BCAE-9BA03EADB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A9A4FAB-E8C5-4BB9-A505-918F5BBCE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2DD66-0388-4260-BA87-4E199AB7D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EF1ADD-BB45-4335-9EBD-6EB9F4F6F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BAFE9FC-A7A1-46EE-808C-58B480129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6EB86F9-6D9B-4B92-B041-816077C84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FAA0DE1-7AF5-43C7-AFB3-B69312143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7D80F70B-2E75-47FC-B4FD-957E21999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6B0EBE9-E579-4224-B739-815CE6902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DDA0C3F-75E5-4F00-A1F8-31A1ECD5C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2C23F2E-0927-44C2-85D3-CAF9BA0B2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10A833E2-F936-468F-ADC5-BE1CC4D5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FBE87FA-3DCF-4F0F-873D-4107A24A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1FBEB82-E9EA-4C59-9D0C-923FE832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F04F0A-63EE-4B8B-A1F4-FB620C4C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973F5D7-65A0-4096-AB8E-082CEFE54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FDAF7660-3810-409E-8C75-8E1917FAF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51310BC-142F-4033-AB41-321B54C96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4A6A6E6-26E2-4458-9590-0430F7B76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5FD0B7D-4DC2-4FB9-BADC-770E6435B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F4EF2B3-064F-4231-8C00-2852E6A60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C9D66E3-DECC-4898-B953-D2A73DC3A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513B26E-2409-496C-B320-AB0CAD8EF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1066F46-1153-4645-A2E9-9C41EDA88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ACD1664-EEA5-44CE-8EAF-701D8A8C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C8EFCB-2F30-4537-85C9-8B084AEC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E071665-13C8-4BDB-AB20-6B1577B4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B97CCEF-E64A-40F9-AEFE-0A16192C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AF56D02-BAEC-4ECB-91C0-D58DD670E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33248A2-3238-4488-8D2E-B107635EB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948DA9A-6ADB-44E9-9869-C7159502F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2D40B714-E334-446B-BCCF-E43E0C8B8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6853AB94-D23C-4E7C-B4A3-A1B422382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AC1A0511-0486-4169-AE03-6937FAAE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9F0D6FB8-341C-46F9-8442-DE0F2DAC8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417947CD-3066-4242-8A02-7C2B33807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92672E-463A-4DD9-83D1-E1113E6D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0153559E-5AE2-4119-8C94-A004D6D30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2400D3E2-18AA-4746-8B98-E57A8EB9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B1019038-B296-4611-B6CF-57DCA306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93087786-0CC2-499E-9CAF-204B8A16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78AD0747-BAA8-4C43-93E6-D856D4837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4AF8FE91-30FD-4584-83C1-FCD85F829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9A30D422-CF5D-4B7A-A904-B0FE0BE69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240F97B7-1EF9-4A99-8906-A1C19C476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3FEA7F1-3263-490E-80A0-3E21EDDF9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2ADA6C36-5F4E-4980-8A7F-06C0CA56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C23541-B246-4C61-B3C1-C6C8FC86C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2BAC0C06-A162-4B9A-A161-3849A4BAD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8C8BE327-D6CA-4A93-A118-D55F66628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580A1012-71B6-471F-82A7-76FEE8355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A56728D3-1EF2-493C-A8DD-F00CEE2E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4A400D54-7766-476E-A4A9-14502F6A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8318C5BE-4C2D-41B6-97A7-BC75792E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0F670AE0-E584-41CD-9933-F4DE8B031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C617CDF3-5FE0-4A54-9114-243A40410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8B98695-0434-47CE-8E40-75AC4E5C7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80F94E38-6F91-449B-AF6F-64A05DF70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94FFD5-C051-4DC7-92AB-783464DB4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7DCDAF97-8162-4B00-B9EB-AD6D5CC49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E8D2CD48-5FA0-41EF-846B-9ED5F3BDD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3D13DCE4-572E-44F6-A709-3EB233A1E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3FC951AE-1BF3-43F7-89D7-D77D958E2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51AEF1C4-CFCD-4FE9-9D40-BB377D549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C617C326-B7F7-4C8C-AB60-E218DB62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DA10AEC5-0DDF-4C96-A239-B55A3935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C00E6CF1-4D0F-4880-96AC-3FDAA06D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9DE75C68-6B32-40EC-A403-0B38BC7EE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646038F6-57F4-4D9D-A775-AF06C57E9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901EAE-E90A-4823-81D0-FFFF16413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C5DB8121-2B7E-4AEF-88BF-FBAF684CC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B3DBD19A-41FA-4146-BDA8-D3DADEB8C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BC754B1F-8519-4EDE-B2EA-3B7AC2E67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3185A8CE-89D1-4A99-BC48-7E83A7C24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1198C03E-7588-42EE-96A7-FE8370866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996F78FD-C292-4CCA-8F09-18E4789D8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EBC5F8B3-9FE9-4C2F-BE72-607E94513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1073342A-6A1B-4B86-AEED-D39B62C3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E2CE9B38-7CAB-441B-B7B6-28E09F82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CBAD9768-A55D-420D-B65B-E99A2F54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01FDE6-B649-414E-BA5A-377B14633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9BA1D4C1-A0C0-43AC-897A-FFAE6D9AF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04B4A8AE-738C-45F8-A7C4-C7464D3C7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65322093-399A-47CD-A3A4-C346C1FA5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B2FED17E-3961-4DEB-8360-2EFABE42E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26F0D8B2-62CA-492C-AF01-57A1A122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EC6381A4-4A5D-4BCE-AB5D-2EB976202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1D127851-4939-4AAD-910F-D7FE7EB67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C32CFBB6-2FC4-41F8-968C-6F9EE7A80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9F35CA2F-9BEA-4107-8722-E262C39BE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989D686C-4974-441E-8AD0-62BF511F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DBCCFF-E319-42D7-9B5C-DC88B8D02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0BFAAC03-376D-4A9B-A109-2938D5E1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4695FFF7-FE22-46CF-A9A1-7BA1F166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DF83E856-9E8F-4552-A3C3-CD02A2379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E9CE5448-1271-4A37-BBD5-180DD7B63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F83100FC-8B66-40C7-B274-D34CF7F04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7B05FBAE-4184-4F12-9B57-5438C731F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F5C06039-2176-4B57-9D83-E257F49E7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44ADA20A-9DDC-4E22-AA10-98559BC3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6F507B45-17A3-4F5D-AC13-8D8B2716C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0230F1E0-10DA-491C-AFE6-329577F35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80C245-8C48-4E09-85D4-D6D6DB683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98E14386-E10A-418B-B408-00544AD61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37BCF6C0-3BCA-4849-9DD3-D4CD4576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D1ABF7C9-40F7-44E5-8F05-0BE4DD06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E425FB67-A013-4459-96B4-DFECFA84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E3BB1564-EB37-4618-8679-245DF92EA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1B12C4AF-BEA8-4A86-8302-D5B04261C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BFF403A8-0E44-42E2-90A2-D21E39575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3DAFB758-DF6C-4152-BCBD-115C5F679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E84D1EF2-87D7-4F54-96C2-EDFF7BF59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632165FF-E834-427D-8FA9-71F21E11E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37789-4ABB-49FB-A69C-DCDDCA85F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576458-FED6-4E09-B97F-ADCD6F55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25BFAC7B-9792-4A9C-89E9-D9D3E8770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D6BCB687-73A5-4107-AC1B-CD03DE1E9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1139A99F-0AA8-4BB3-B2EA-F8E5C1702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A413199D-6F24-4660-BED7-4D1FC200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483B5385-62FC-4E2A-BBDD-DFA0BDE0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A9E87A21-D9AB-467A-9AAF-2D6AC3DA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14E9F51B-B84C-42FE-8ABB-7274F053D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42AAB775-0824-4799-A947-D1111615A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EA8DB81D-5890-40D4-982B-A99868A42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F556254A-BC7F-4B30-AE98-486F02433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C05FE6-A489-4FE2-9A52-996E2BDAB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839C7577-C02A-4D45-8029-EAE2126B2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410EA97D-777A-4E6D-B56B-15249129D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7F845A8A-9244-4449-81D4-03BB6AAFC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6FC6CE8B-D35E-40F8-8A12-69EE8402B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82FE2AFD-F684-4361-86F4-6380E1FA9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194774D5-E62B-4F7F-BC1E-1696E630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19E35D6C-EC1D-4CB7-A9F2-885D10AB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84F6DE73-1954-49C9-AB10-386BB51A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238043B6-8228-4816-B24F-C7FD25CDF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0E8ABA5F-7281-4AF9-9C60-8BC828E60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B6789B-BA36-4A33-998A-FC094CB77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B9D27AAE-91DA-469F-A064-31F90E817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44B08CC3-C303-4DEA-917E-40EE84A53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F40B68F5-18C0-40D9-A6DE-01BEBDBD1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6EAE4242-F444-4046-B6E7-066E23DA5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01F1EEE4-B25A-40D9-8775-0E858F44E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53D15519-BAC1-4FAD-A8FF-B3C86F353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3C71B0AC-FF07-4206-8399-0FD128D4F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308163B6-84BA-414E-824E-BEAF76ED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B528CD97-5758-4E9B-B393-0AB5647E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E541FF32-3632-4461-ACA1-581BFFC9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491EFD-AD57-4D2D-941E-670C5000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30914EB1-0019-40EC-AA3A-9C6BF280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B10336E5-9BFA-44F6-8237-1FDC3EB63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B06D35C3-AD98-482D-9E5E-9CB7CDE27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AA530E27-CF55-4FA1-B7BF-56D74BCFC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6EB6BA48-917C-4860-A785-AE969B8EF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FDF085CB-DEAC-4064-A52B-00909C1D3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5065A8ED-5383-452D-8999-AC1B30B68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9EABE846-4738-4AE3-A97F-4F42C6241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4B93B8F2-6488-45F3-8F55-7F0EDCC72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FFC1F7C2-55D1-487B-904D-EFC30F79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39EA0B-CD90-456B-AF86-17134E3D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33D58CB1-C7BD-45D4-ABD4-BE028320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24EF41F5-0039-4EF7-852D-654D3313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34CD5E28-CFC4-4DA1-A24C-21CFCD7B4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7D68F4BA-8E39-4AD5-AD99-2472A8EC8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09BCF03A-11C2-429C-B3BA-B238B7DC3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74C075C-EC81-4FB5-930A-3659F4899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78F0377-6C3E-4119-A4BD-6467855D5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4F1DFF0-420A-41C2-9E52-3E0778090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260E13A-D1F3-45D8-9C4A-91C14EEB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C480946-C3A1-4777-B5DA-07D03E1B5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887377-4C4E-4C38-A1DF-7CAC9333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E1858E9-A942-4ECB-80DD-20552DE44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8EDA472-A057-4717-92B5-82424716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DF1D75E-6AA7-4842-BDBC-1B7ABFA3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B298F0F-80F6-466A-BDE2-A79B388A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3DD14D0-75A8-4DC1-AD69-1CF3BDBF0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B501322-C165-43D1-AA5E-2AC19ED04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0810D9C-BF3C-46DB-A9AC-E855A9D08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8BF5F800-B5EF-4FAA-B5B0-F6A413612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3F10E178-0814-4F96-8520-161C59CF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23AC3EF4-A68F-441A-BB93-8BA10C1F5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C137B6-22F1-407F-9A25-E7EDCDD93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A3460604-814B-403C-B9FC-95F7DA1C8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0C25B2C2-ED9F-4BDC-8047-45708C41E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5C533B06-DBF2-47B2-A002-4D54B9EF5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AD8AE08F-0532-4247-A859-6612A5BF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9AF7F6AE-ADD3-4649-89DE-1DF72118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CAE419ED-7F54-4845-9D20-9D0172EE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9E291F67-DE08-4652-8439-825E81168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D4A50C55-99CE-4C2D-92B1-0B0C42A97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D463E82F-5B6C-4A88-A775-5FF5C948E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C7CC3CC3-A9DE-4F2C-9A1F-5F735D281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A194C3-6C27-4F00-A317-7C72FC5E8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24F554D0-2F29-4E21-ADA2-F72450A77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3DAFF611-BF16-4A72-AF8C-A131C90F0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514790D9-888A-42AA-A305-FC545FA4B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FDD3DC74-E1F0-4D13-91F8-E1A100096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C53E8936-12A5-44F6-B977-BB896F8A4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9CC5F533-E743-4AA4-A822-50ED6060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F728EAAE-69F2-4AAB-B5CD-82B522DB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CC8D06D4-CBE7-4DD7-B3F3-2E6F7B86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9EF557E8-A57E-4B0A-8953-1835EE3E7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861E5953-829D-4F27-9D3C-2AD553D93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AD1EAC-BD73-48F8-85BF-BE16488B1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BBA97AFC-9845-49D4-ABBF-A15183183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21FBF51C-2544-40DD-939C-CEBC779BF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77095437-2244-489A-8DF1-429298683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FD845908-864F-4FBE-A14E-DC8C380D1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542232B9-828D-4B06-8142-42912D290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26ED10EF-0FC5-4373-8D0D-2DC23B7A4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5B9B89F1-D989-4495-87FA-A28237F55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E2D2EBA2-5F12-4212-AA9B-6E44A13B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864FBC58-1041-4EA0-9926-D63752B2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C27294DE-C207-42F3-BFB3-1901A7CB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C247D-A55D-443E-9E3E-831C1E1F9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02371855-005B-4059-9316-7347BF854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70DD7BBB-BB81-4F1B-B806-1ED51ED4E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1AE083D9-9A19-405F-9582-EBB47C49D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CE413FAC-98FF-4E6E-817A-EEF5CB400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B90742E1-39A7-4FB9-9D63-266DF7960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75585D6B-B0F1-4709-90B0-F9AD50406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CA600264-9707-4005-B957-250FE8FBC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D3736991-18A1-4F02-8214-F2B301544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AC6892D8-B383-4D52-A1BE-0A1EE7F6B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5C87148A-8916-4C68-84D2-DCC53011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7F9FC-55F3-48A0-AA7E-689FB4759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9AD9B-B19F-4F0D-A5CB-222AD10B2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B7EB11A9-E418-4CB6-854B-BA4A219D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9DD26AFC-09A9-4CAB-951A-68D73CE0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0501D826-F31F-4E2C-BE18-6140194C9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391A27A8-C340-4A12-AAB4-ACC6A3B37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7806DFE1-E917-48F9-A372-CEAC37CF5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CFA1E96E-81A6-4A16-9336-BC09509DE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8D169067-B6F2-4CB2-AB5C-E66D9123B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0D4E3011-E917-46D9-A712-247B2B423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3513EBC1-97B2-4556-87B8-8BB78084B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DB8DE381-D2F2-41EB-96E6-C5366B282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92165-728B-4431-9218-B080D5E18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EC64937E-3753-459C-9AC7-85AD983AB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6E5E2E77-299E-4EAF-9A83-475F5E4C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E5994DB4-4E7A-4C39-91DB-74BE47BC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0C7033F6-BEA4-4C62-AE2E-0303CE1B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001538BC-B11C-4739-AAB9-DA8D86041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E9CE4F07-E04C-49AC-8649-E9817996C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3D483C3E-2835-497D-9FF4-2674315D0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0D2F9824-6BBB-4F8F-973F-10DC55893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13730197-10E4-4733-B89B-D5A831A00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2FD4019C-AE8D-46EF-9EBF-37DD11767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326CF-9DE8-433A-AF79-0FD9B115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7F2AAFBD-1CFC-4173-83B7-93531C975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95551AD0-3152-46D2-96DA-7B5065859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91D14B3C-6220-4BF9-BD32-11B1C3389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CCBC243B-FDD7-40C9-ADC1-B9E17A92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1158651C-7D18-4CDB-9C40-1BD95BF9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CFB0C8C1-6A0A-4272-B8B0-85F0C9E7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7B5E829E-283B-4CB1-A802-2C772F638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4B03A04C-DDC7-4D64-BEBE-2E97B1AAF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FBC3B9E5-75B7-48F1-988E-5114AE2C3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8C2BA3C0-4F32-4F02-858C-249755F88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F1D74-F6D3-43F7-825E-27A659C96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4D7C4C62-5D55-4687-B324-029A18AF1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FAFCFB7E-A75F-4E75-9936-D4F81356F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4A15F62B-87CE-4F82-9CFF-135AC021B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64D3D144-A233-441D-8D40-E4110D005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91E32EA3-FC07-4F0C-B9F0-EFA15E6F1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6D6D659E-7766-4014-8DEF-5A5F3D65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9DDBBD9A-D3B3-492A-8179-5164F45D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44E5AFB9-27FF-4736-AF30-79068550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412D3966-4614-493F-AAAB-B958B1871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885C8F1C-EABA-4C6A-917B-F5727DD30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5CAAE-358D-486C-8F2D-A9E700A3E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1E35F7E9-2F86-4E4B-9BB4-85ACACDB2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4F226203-B04E-47CA-AD43-5820B4B9A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3DA66C0C-81DC-4722-B0A9-81F20529F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A1670984-5852-4B67-9FDB-4952D812E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B0EE0B14-083B-4B81-865E-55DA0AFF7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4E396C08-C655-4214-8437-A8C3D8027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074C1A81-664D-43DE-9A47-3EA5EAFAA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F722EA6A-3D60-44AF-9746-1092513F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5DC94A06-323D-44BF-8188-551E2C8D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9B932289-49C9-4ACF-9F5C-428F70DF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68DC7-3720-47A9-BC28-0746573E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D72A6D1B-F40E-4ECC-8BAC-0D0883F9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2D646309-1892-41B2-978D-11C1116FC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A86BBA32-5B6F-4AC9-88F2-666A7FBED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CF6B047C-4356-49BF-B4CC-D7EEFC438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B4325B03-1F35-4845-AB6D-6A0A619C0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1E5EEC37-F14B-4225-A85A-1E0B51C95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6EC2D395-2678-4A87-B459-03CEDC92E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6C7E700B-BD28-41F2-9C35-5E92B3924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82DA5877-BCF2-4263-89D6-B0B7B31E3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350039D2-B294-44EE-97EE-8B9742FE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02D01-3017-4396-A799-2CDDF4BC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7D4C5457-3A99-49F8-B0BC-8C31B1D9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2BA68B77-5091-40C2-A216-525FBA8D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A124545A-58CB-4560-944C-87729790B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18002051-ACEB-4AE6-81BE-CC6AB299B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996EE831-E1FA-43EF-BA88-54EC38688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C156F0D5-4B0A-499C-87AE-0C773F135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51624D6C-E4F7-452F-8569-537E9709B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C8BBA1DB-19E2-4766-AC22-C8ABA5B82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79EEB32B-176D-4DBD-A4AF-F16944543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B056C4DE-1CCA-41AD-A539-326421282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0E0D5-5E09-4C68-9DBE-CEED858D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1A8C34F1-8F6E-4F36-93AA-E58D9D164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05963BE6-C4E8-4337-B78C-A92BFE20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6FA62B14-7EBA-4337-A384-D3E26CE3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EC6B965D-94CB-471D-9656-9DE44A76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B1529956-E2BA-4CC4-8971-91ACA5B5C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163D8D58-0067-4FC9-9E2F-6179CCE0B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547189F5-B2A0-4A49-9235-1857C879C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E647F-199F-454D-8D13-BD1AC58BE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1F5B9-88CE-4640-919F-789668213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00B6A-DF89-4A72-A416-8E703E42E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39D5F-67AF-4943-AC0B-9B13EA559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9FBB8A-E836-4184-8DA9-6A6B1D65B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8FFE6A-A6E7-40BE-AA5F-31C699713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8D3850-982A-44E3-BC0C-DCEAE506A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EC36D4-8BE2-45AD-B0D0-68B457EC2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0C0712-326D-4F5A-9A70-84D91D84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128954-9771-4675-B3E1-CB9DBF240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B24B04-FF28-47CE-9213-5045518C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3D164B-3730-4B22-9D07-6A4C8F59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AFE77A-84A0-4499-A849-D465E10C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C5C85-3300-4371-AE23-1C558707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7FDB1C-BF32-4137-87A9-B4DCC673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148A22-2B18-4697-AD0C-79CA5D10C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103D3F-B9A6-451E-926D-4369A35DB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58589B-3F06-4EE8-986D-102E11AB4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4FBC50-C31C-4CE4-B50D-7033D9EF6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AB03AF-86D6-4A00-A5DD-69851D5B7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9891CC-DDF6-48F0-A8BD-ED13141BD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7DA544-5F62-4650-A622-009EF1B17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05D700-A3F4-4EB7-A8F8-21257D4C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A189E0-9CB4-4691-AF72-C69BA61D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68F17-86DF-4D5F-9DC0-AE2F246D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A9689E-C371-4BFA-A870-2409B594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C2CAB1-D60C-4AE4-85E1-E6DCDF8C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1DBC72-6124-4E57-A722-1DC113CB1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C4D889-3BB8-4706-811E-ECD576C07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67744D-E50D-480E-B329-1136B01A4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64BA64-1F56-4638-BA10-022C0FDFE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BF3316-BD36-45B9-ADEB-DCC0E37C5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854C9B-7964-4FB1-9FEA-6C6938C5F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07E847-0057-4574-80AB-93B46AB66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FAEE4B-2ECE-47DA-8CD5-25D292E61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12196-3458-490B-AF85-390B6FD7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748375-0298-4719-8AA3-35327EA91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9BE3B3-EAAF-4D6F-90BA-A674CA8E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BE9035-2EBA-4BFF-BF35-72EA209F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392752-EFDC-474F-BB5A-D2C7BF83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CCB53F-92CD-4394-B281-7C9B8CF31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08BC4B-77C1-41E5-81D7-BBA1F5C3E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AFC702-FAFD-43BA-922A-710ABB9BC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EDB923-1932-40AC-88C7-686F313E4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09E10A-C6B5-4520-B459-9BD3E4A82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C9D981-848D-41E8-B26B-040E27EF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41458-3F71-486D-B150-87291EF3CC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6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2AD22-9138-4A99-8706-ECB8F3604E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15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ftr" idx="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69817-F349-40BE-BC4B-BEE5CB615A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66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ftr" idx="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85CC6-0EC5-43F7-B8C8-C9039EEFB7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1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ftr" idx="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sldNum" idx="3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F51F0-8A2D-4890-B368-B942C7594D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 type="dt" idx="3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6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ftr" idx="4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sldNum" idx="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33F49-ED70-4122-8063-1D2611FE72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dt" idx="4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 type="ftr" idx="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 type="sldNum" idx="4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92D3E-4928-4432-9B4E-D2144F3145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 type="dt" idx="4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70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2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773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5E82-01BC-4E36-8D55-63172DEA2E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4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25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 type="ftr" idx="4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 type="sldNum" idx="5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6CBB1-D02A-4E4A-83ED-BDD41C3DFD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 type="dt" idx="5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5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76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 type="ftr" idx="5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 type="sldNum" idx="5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C725F-AAD3-483C-9E60-1654121256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 type="dt" idx="5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 type="ftr" idx="5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 type="sldNum" idx="5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E881A-7110-4EA4-A939-E0D1A7E688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 type="dt" idx="5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B48DB-72F5-48B7-8137-22EB82E50C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7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 type="ftr" idx="5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 type="sldNum" idx="5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88FC7-C1FD-4320-8799-891F12111E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 type="dt" idx="6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2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 type="ftr" idx="6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 type="sldNum" idx="6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BFB90-1A1F-4075-A0C9-AE631D6026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 type="dt" idx="6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9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80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 type="ftr" idx="6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 type="sldNum" idx="6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FDDAA-762A-438A-9ED3-19657DA61E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 type="dt" idx="6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3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 type="ftr" idx="6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 type="sldNum" idx="6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D69C9-4C78-4E2F-B13A-1280B18F16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 type="dt" idx="6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8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 type="ftr" idx="7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 type="sldNum" idx="7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6F4BA-7BEB-4602-BFD8-9D76D67639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PlaceHolder 5"/>
          <p:cNvSpPr>
            <a:spLocks noGrp="1"/>
          </p:cNvSpPr>
          <p:nvPr>
            <p:ph type="dt" idx="7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 type="ftr" idx="7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 type="sldNum" idx="7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FB978-1A57-4B8C-8FC8-B71C03EB96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PlaceHolder 5"/>
          <p:cNvSpPr>
            <a:spLocks noGrp="1"/>
          </p:cNvSpPr>
          <p:nvPr>
            <p:ph type="dt" idx="7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8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 type="ftr" idx="7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 type="sldNum" idx="7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70302-0DEA-4121-B6DB-FC9654333E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PlaceHolder 5"/>
          <p:cNvSpPr>
            <a:spLocks noGrp="1"/>
          </p:cNvSpPr>
          <p:nvPr>
            <p:ph type="dt" idx="7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33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33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 type="dt" idx="7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7AABD-B0F7-4DC6-BE7F-5589C7752B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9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90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 type="ftr" idx="8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 type="sldNum" idx="8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E486C-77FB-4788-A0AC-B898AE38ED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PlaceHolder 5"/>
          <p:cNvSpPr>
            <a:spLocks noGrp="1"/>
          </p:cNvSpPr>
          <p:nvPr>
            <p:ph type="dt" idx="8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4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 type="ftr" idx="8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4"/>
          <p:cNvSpPr>
            <a:spLocks noGrp="1"/>
          </p:cNvSpPr>
          <p:nvPr>
            <p:ph type="sldNum" idx="8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3D3D3-464C-4521-8DF0-B90E5E083C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PlaceHolder 5"/>
          <p:cNvSpPr>
            <a:spLocks noGrp="1"/>
          </p:cNvSpPr>
          <p:nvPr>
            <p:ph type="dt" idx="8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42879-FA52-4D00-84AE-F8D0D23B91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5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9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 type="ftr" idx="8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 type="sldNum" idx="8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C48C5-448D-4228-A7AA-C3907BEE2F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PlaceHolder 5"/>
          <p:cNvSpPr>
            <a:spLocks noGrp="1"/>
          </p:cNvSpPr>
          <p:nvPr>
            <p:ph type="dt" idx="9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4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 type="ftr" idx="9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4"/>
          <p:cNvSpPr>
            <a:spLocks noGrp="1"/>
          </p:cNvSpPr>
          <p:nvPr>
            <p:ph type="sldNum" idx="9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4AEEE-2412-4BBD-9A28-BF1FDF4E05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PlaceHolder 5"/>
          <p:cNvSpPr>
            <a:spLocks noGrp="1"/>
          </p:cNvSpPr>
          <p:nvPr>
            <p:ph type="dt" idx="9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9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 type="ftr" idx="9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4"/>
          <p:cNvSpPr>
            <a:spLocks noGrp="1"/>
          </p:cNvSpPr>
          <p:nvPr>
            <p:ph type="sldNum" idx="9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F7AD5-CB18-40F1-8462-F0A7F67AE7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PlaceHolder 5"/>
          <p:cNvSpPr>
            <a:spLocks noGrp="1"/>
          </p:cNvSpPr>
          <p:nvPr>
            <p:ph type="dt" idx="9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4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645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 type="ftr" idx="9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 type="sldNum" idx="9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A1D59-7C68-40A0-B4E9-33EB242D4C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PlaceHolder 5"/>
          <p:cNvSpPr>
            <a:spLocks noGrp="1"/>
          </p:cNvSpPr>
          <p:nvPr>
            <p:ph type="dt" idx="9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5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696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 type="ftr" idx="10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4"/>
          <p:cNvSpPr>
            <a:spLocks noGrp="1"/>
          </p:cNvSpPr>
          <p:nvPr>
            <p:ph type="sldNum" idx="10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C40BD-1E06-48F7-9F64-3F1DF72738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PlaceHolder 5"/>
          <p:cNvSpPr>
            <a:spLocks noGrp="1"/>
          </p:cNvSpPr>
          <p:nvPr>
            <p:ph type="dt" idx="10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74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 type="ftr" idx="10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 type="sldNum" idx="10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2F445-216F-430E-A558-AA56B0B681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PlaceHolder 5"/>
          <p:cNvSpPr>
            <a:spLocks noGrp="1"/>
          </p:cNvSpPr>
          <p:nvPr>
            <p:ph type="dt" idx="10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79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 type="ftr" idx="10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PlaceHolder 4"/>
          <p:cNvSpPr>
            <a:spLocks noGrp="1"/>
          </p:cNvSpPr>
          <p:nvPr>
            <p:ph type="sldNum" idx="10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239B6-AAC6-40E8-8EE7-E4DC7A3B6D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PlaceHolder 5"/>
          <p:cNvSpPr>
            <a:spLocks noGrp="1"/>
          </p:cNvSpPr>
          <p:nvPr>
            <p:ph type="dt" idx="10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84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 type="ftr" idx="10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PlaceHolder 4"/>
          <p:cNvSpPr>
            <a:spLocks noGrp="1"/>
          </p:cNvSpPr>
          <p:nvPr>
            <p:ph type="sldNum" idx="11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A94CC-2237-4FF1-A5A3-A3EA942F02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PlaceHolder 5"/>
          <p:cNvSpPr>
            <a:spLocks noGrp="1"/>
          </p:cNvSpPr>
          <p:nvPr>
            <p:ph type="dt" idx="1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900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2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903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 type="dt" idx="1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PlaceHolder 4"/>
          <p:cNvSpPr>
            <a:spLocks noGrp="1"/>
          </p:cNvSpPr>
          <p:nvPr>
            <p:ph type="ftr" idx="1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PlaceHolder 5"/>
          <p:cNvSpPr>
            <a:spLocks noGrp="1"/>
          </p:cNvSpPr>
          <p:nvPr>
            <p:ph type="sldNum" idx="1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2B0C1-E063-4596-A0FC-9B0964D914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4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955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PlaceHolder 3"/>
          <p:cNvSpPr>
            <a:spLocks noGrp="1"/>
          </p:cNvSpPr>
          <p:nvPr>
            <p:ph type="ftr" idx="1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4"/>
          <p:cNvSpPr>
            <a:spLocks noGrp="1"/>
          </p:cNvSpPr>
          <p:nvPr>
            <p:ph type="sldNum" idx="11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685D6-E6F7-495E-80B0-28206F13D2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PlaceHolder 5"/>
          <p:cNvSpPr>
            <a:spLocks noGrp="1"/>
          </p:cNvSpPr>
          <p:nvPr>
            <p:ph type="dt" idx="1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B15E0-5B7C-4CB2-974F-A56A5FC9A6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6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5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06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PlaceHolder 3"/>
          <p:cNvSpPr>
            <a:spLocks noGrp="1"/>
          </p:cNvSpPr>
          <p:nvPr>
            <p:ph type="ftr" idx="1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PlaceHolder 4"/>
          <p:cNvSpPr>
            <a:spLocks noGrp="1"/>
          </p:cNvSpPr>
          <p:nvPr>
            <p:ph type="sldNum" idx="1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B29EE-C301-477D-84CF-27622B70F9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PlaceHolder 5"/>
          <p:cNvSpPr>
            <a:spLocks noGrp="1"/>
          </p:cNvSpPr>
          <p:nvPr>
            <p:ph type="dt" idx="1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PlaceHolder 3"/>
          <p:cNvSpPr>
            <a:spLocks noGrp="1"/>
          </p:cNvSpPr>
          <p:nvPr>
            <p:ph type="ftr" idx="1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PlaceHolder 4"/>
          <p:cNvSpPr>
            <a:spLocks noGrp="1"/>
          </p:cNvSpPr>
          <p:nvPr>
            <p:ph type="sldNum" idx="12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0B5B6-790A-4332-8E7E-4F4754D713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PlaceHolder 5"/>
          <p:cNvSpPr>
            <a:spLocks noGrp="1"/>
          </p:cNvSpPr>
          <p:nvPr>
            <p:ph type="dt" idx="1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1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 type="ftr" idx="1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PlaceHolder 4"/>
          <p:cNvSpPr>
            <a:spLocks noGrp="1"/>
          </p:cNvSpPr>
          <p:nvPr>
            <p:ph type="sldNum" idx="1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9D581-A52B-4BF4-B493-D1B3653FD4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PlaceHolder 5"/>
          <p:cNvSpPr>
            <a:spLocks noGrp="1"/>
          </p:cNvSpPr>
          <p:nvPr>
            <p:ph type="dt" idx="1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15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PlaceHolder 3"/>
          <p:cNvSpPr>
            <a:spLocks noGrp="1"/>
          </p:cNvSpPr>
          <p:nvPr>
            <p:ph type="ftr" idx="1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PlaceHolder 4"/>
          <p:cNvSpPr>
            <a:spLocks noGrp="1"/>
          </p:cNvSpPr>
          <p:nvPr>
            <p:ph type="sldNum" idx="12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EA413-1F15-4DAF-8F5C-C43CD92F30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PlaceHolder 5"/>
          <p:cNvSpPr>
            <a:spLocks noGrp="1"/>
          </p:cNvSpPr>
          <p:nvPr>
            <p:ph type="dt" idx="1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9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210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PlaceHolder 3"/>
          <p:cNvSpPr>
            <a:spLocks noGrp="1"/>
          </p:cNvSpPr>
          <p:nvPr>
            <p:ph type="ftr" idx="1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PlaceHolder 4"/>
          <p:cNvSpPr>
            <a:spLocks noGrp="1"/>
          </p:cNvSpPr>
          <p:nvPr>
            <p:ph type="sldNum" idx="13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4862-8605-4B25-A1F7-721E96057C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PlaceHolder 5"/>
          <p:cNvSpPr>
            <a:spLocks noGrp="1"/>
          </p:cNvSpPr>
          <p:nvPr>
            <p:ph type="dt" idx="1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26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PlaceHolder 3"/>
          <p:cNvSpPr>
            <a:spLocks noGrp="1"/>
          </p:cNvSpPr>
          <p:nvPr>
            <p:ph type="ftr" idx="13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PlaceHolder 4"/>
          <p:cNvSpPr>
            <a:spLocks noGrp="1"/>
          </p:cNvSpPr>
          <p:nvPr>
            <p:ph type="sldNum" idx="13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4AAE9-BBBC-4E3F-9C84-4CB4B50532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PlaceHolder 5"/>
          <p:cNvSpPr>
            <a:spLocks noGrp="1"/>
          </p:cNvSpPr>
          <p:nvPr>
            <p:ph type="dt" idx="1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31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PlaceHolder 3"/>
          <p:cNvSpPr>
            <a:spLocks noGrp="1"/>
          </p:cNvSpPr>
          <p:nvPr>
            <p:ph type="ftr" idx="13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PlaceHolder 4"/>
          <p:cNvSpPr>
            <a:spLocks noGrp="1"/>
          </p:cNvSpPr>
          <p:nvPr>
            <p:ph type="sldNum" idx="13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844D4-D254-44DB-A74D-42BCE99877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PlaceHolder 5"/>
          <p:cNvSpPr>
            <a:spLocks noGrp="1"/>
          </p:cNvSpPr>
          <p:nvPr>
            <p:ph type="dt" idx="13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3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PlaceHolder 3"/>
          <p:cNvSpPr>
            <a:spLocks noGrp="1"/>
          </p:cNvSpPr>
          <p:nvPr>
            <p:ph type="ftr" idx="13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PlaceHolder 4"/>
          <p:cNvSpPr>
            <a:spLocks noGrp="1"/>
          </p:cNvSpPr>
          <p:nvPr>
            <p:ph type="sldNum" idx="14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D5610-59F0-4802-8DA3-47583783B1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PlaceHolder 5"/>
          <p:cNvSpPr>
            <a:spLocks noGrp="1"/>
          </p:cNvSpPr>
          <p:nvPr>
            <p:ph type="dt" idx="14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41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PlaceHolder 3"/>
          <p:cNvSpPr>
            <a:spLocks noGrp="1"/>
          </p:cNvSpPr>
          <p:nvPr>
            <p:ph type="ftr" idx="14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PlaceHolder 4"/>
          <p:cNvSpPr>
            <a:spLocks noGrp="1"/>
          </p:cNvSpPr>
          <p:nvPr>
            <p:ph type="sldNum" idx="14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A59AA-1B70-462C-B5EB-BC3E935088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PlaceHolder 5"/>
          <p:cNvSpPr>
            <a:spLocks noGrp="1"/>
          </p:cNvSpPr>
          <p:nvPr>
            <p:ph type="dt" idx="14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0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2802A-7482-4355-BF06-88B3D20A33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60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09D93-9BB9-4769-9860-16833276AB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1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9AB41-9352-4F7C-95E2-0351A3C9D5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6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ftr" idx="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1103D-7E71-49A5-9EBA-C8667F93C1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9E59-001D-473F-BA00-242779CA95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4" name="Bevel 4"/>
          <p:cNvSpPr/>
          <p:nvPr/>
        </p:nvSpPr>
        <p:spPr>
          <a:xfrm>
            <a:off x="990720" y="2590920"/>
            <a:ext cx="7010280" cy="1752480"/>
          </a:xfrm>
          <a:prstGeom prst="bevel">
            <a:avLst>
              <a:gd name="adj" fmla="val 12500"/>
            </a:avLst>
          </a:prstGeom>
          <a:solidFill>
            <a:srgbClr val="9c343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KONKURS ZA DODJELU GRANTOVA ZA PROJEKTE ISTRAŽIVANJA I RAZVO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5" name="Picture 6" descr="Heric logo"/>
          <p:cNvPicPr/>
          <p:nvPr/>
        </p:nvPicPr>
        <p:blipFill>
          <a:blip r:embed="rId1"/>
          <a:stretch/>
        </p:blipFill>
        <p:spPr>
          <a:xfrm>
            <a:off x="895320" y="4800600"/>
            <a:ext cx="2990880" cy="1295280"/>
          </a:xfrm>
          <a:prstGeom prst="rect">
            <a:avLst/>
          </a:prstGeom>
          <a:ln w="0">
            <a:noFill/>
          </a:ln>
        </p:spPr>
      </p:pic>
      <p:pic>
        <p:nvPicPr>
          <p:cNvPr id="2466" name="Picture 8" descr="Heric logo"/>
          <p:cNvPicPr/>
          <p:nvPr/>
        </p:nvPicPr>
        <p:blipFill>
          <a:blip r:embed="rId2"/>
          <a:stretch/>
        </p:blipFill>
        <p:spPr>
          <a:xfrm>
            <a:off x="4756320" y="4876920"/>
            <a:ext cx="3092400" cy="1218960"/>
          </a:xfrm>
          <a:prstGeom prst="rect">
            <a:avLst/>
          </a:prstGeom>
          <a:ln w="0">
            <a:noFill/>
          </a:ln>
        </p:spPr>
      </p:pic>
      <p:pic>
        <p:nvPicPr>
          <p:cNvPr id="2467" name="Picture 3" descr="MNAmejl.JPG"/>
          <p:cNvPicPr/>
          <p:nvPr/>
        </p:nvPicPr>
        <p:blipFill>
          <a:blip r:embed="rId3"/>
          <a:srcRect l="0" t="30864" r="0" b="0"/>
          <a:stretch/>
        </p:blipFill>
        <p:spPr>
          <a:xfrm>
            <a:off x="3581280" y="479520"/>
            <a:ext cx="1371600" cy="187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2" name="Chart 3" descr=""/>
          <p:cNvPicPr/>
          <p:nvPr/>
        </p:nvPicPr>
        <p:blipFill>
          <a:blip r:embed="rId1"/>
          <a:stretch/>
        </p:blipFill>
        <p:spPr>
          <a:xfrm>
            <a:off x="-6480" y="987480"/>
            <a:ext cx="9156960" cy="5877000"/>
          </a:xfrm>
          <a:prstGeom prst="rect">
            <a:avLst/>
          </a:prstGeom>
          <a:ln w="0">
            <a:noFill/>
          </a:ln>
        </p:spPr>
      </p:pic>
      <p:sp>
        <p:nvSpPr>
          <p:cNvPr id="2493" name="Flowchart: Manual Operation 5"/>
          <p:cNvSpPr/>
          <p:nvPr/>
        </p:nvSpPr>
        <p:spPr>
          <a:xfrm>
            <a:off x="1219320" y="609480"/>
            <a:ext cx="6553080" cy="914400"/>
          </a:xfrm>
          <a:prstGeom prst="flowChartManualOperation">
            <a:avLst/>
          </a:prstGeom>
          <a:solidFill>
            <a:srgbClr val="9c343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ffff"/>
                </a:solidFill>
                <a:latin typeface="Arial"/>
              </a:rPr>
              <a:t>Statistik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sr-Latn-RS" sz="2800" spc="-1" strike="noStrike">
                <a:solidFill>
                  <a:srgbClr val="ffffff"/>
                </a:solidFill>
                <a:latin typeface="Arial"/>
              </a:rPr>
              <a:t>onkur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4" name="Chart 4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724280"/>
          </a:xfrm>
          <a:prstGeom prst="rect">
            <a:avLst/>
          </a:prstGeom>
          <a:ln w="0">
            <a:noFill/>
          </a:ln>
        </p:spPr>
      </p:pic>
      <p:sp>
        <p:nvSpPr>
          <p:cNvPr id="2495" name="Rectangle 3"/>
          <p:cNvSpPr/>
          <p:nvPr/>
        </p:nvSpPr>
        <p:spPr>
          <a:xfrm>
            <a:off x="0" y="38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Rectangle 6"/>
          <p:cNvSpPr/>
          <p:nvPr/>
        </p:nvSpPr>
        <p:spPr>
          <a:xfrm>
            <a:off x="1523880" y="21337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9c3436"/>
                </a:solidFill>
                <a:uFillTx/>
                <a:latin typeface="Arial"/>
                <a:ea typeface="Times New Roman"/>
              </a:rPr>
              <a:t>42 naučnoistraživačke institucije iz inostranst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Flowchart: Manual Operation 5"/>
          <p:cNvSpPr/>
          <p:nvPr/>
        </p:nvSpPr>
        <p:spPr>
          <a:xfrm>
            <a:off x="1219320" y="609480"/>
            <a:ext cx="6553080" cy="914400"/>
          </a:xfrm>
          <a:prstGeom prst="flowChartManualOperation">
            <a:avLst/>
          </a:prstGeom>
          <a:solidFill>
            <a:srgbClr val="9c343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ffff"/>
                </a:solidFill>
                <a:latin typeface="Arial"/>
              </a:rPr>
              <a:t>Statistik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sr-Latn-RS" sz="2800" spc="-1" strike="noStrike">
                <a:solidFill>
                  <a:srgbClr val="ffffff"/>
                </a:solidFill>
                <a:latin typeface="Arial"/>
              </a:rPr>
              <a:t>onkur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8" name=""/>
          <p:cNvSpPr txBox="1"/>
          <p:nvPr/>
        </p:nvSpPr>
        <p:spPr>
          <a:xfrm>
            <a:off x="456840" y="19807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33133"/>
                </a:solidFill>
                <a:latin typeface="Arial"/>
              </a:rPr>
              <a:t>U</a:t>
            </a:r>
            <a:r>
              <a:rPr b="1" lang="sr-Latn-CS" sz="2400" spc="-1" strike="noStrike">
                <a:solidFill>
                  <a:srgbClr val="933133"/>
                </a:solidFill>
                <a:latin typeface="Arial"/>
              </a:rPr>
              <a:t> skladu sa Priručnikom </a:t>
            </a:r>
            <a:r>
              <a:rPr b="1" lang="en-US" sz="2400" spc="-1" strike="noStrike">
                <a:solidFill>
                  <a:srgbClr val="933133"/>
                </a:solidFill>
                <a:latin typeface="Arial"/>
              </a:rPr>
              <a:t>za podnosioce prijava za grantove za projekte istraživanja i razvoja </a:t>
            </a:r>
            <a:r>
              <a:rPr b="1" lang="sr-Latn-CS" sz="2400" spc="-1" strike="noStrike">
                <a:solidFill>
                  <a:srgbClr val="933133"/>
                </a:solidFill>
                <a:latin typeface="Arial"/>
              </a:rPr>
              <a:t>i pravilima Svjetske ban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33133"/>
                </a:solidFill>
                <a:latin typeface="Arial"/>
              </a:rPr>
              <a:t>Svjetska banka dala saglasnost na svaku fazu procesa evaluacije i prilikom izbora svih evaluat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Flowchart: Manual Operation 3"/>
          <p:cNvSpPr/>
          <p:nvPr/>
        </p:nvSpPr>
        <p:spPr>
          <a:xfrm>
            <a:off x="1219320" y="609480"/>
            <a:ext cx="6553080" cy="914400"/>
          </a:xfrm>
          <a:prstGeom prst="flowChartManualOperation">
            <a:avLst/>
          </a:prstGeom>
          <a:solidFill>
            <a:srgbClr val="9c343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es</a:t>
            </a:r>
            <a:r>
              <a:rPr b="1" lang="sr-Latn-RS" sz="2800" spc="-1" strike="noStrike">
                <a:solidFill>
                  <a:srgbClr val="ffffff"/>
                </a:solidFill>
                <a:latin typeface="Arial"/>
              </a:rPr>
              <a:t> evalu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0" name="Rounded Rectangle 5"/>
          <p:cNvSpPr/>
          <p:nvPr/>
        </p:nvSpPr>
        <p:spPr>
          <a:xfrm>
            <a:off x="76320" y="2819520"/>
            <a:ext cx="8915400" cy="2133360"/>
          </a:xfrm>
          <a:prstGeom prst="roundRect">
            <a:avLst>
              <a:gd name="adj" fmla="val 16667"/>
            </a:avLst>
          </a:prstGeom>
          <a:solidFill>
            <a:srgbClr val="ffcc00">
              <a:alpha val="1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Rounded Rectangle 4"/>
          <p:cNvSpPr/>
          <p:nvPr/>
        </p:nvSpPr>
        <p:spPr>
          <a:xfrm>
            <a:off x="76320" y="1523880"/>
            <a:ext cx="8915400" cy="1219320"/>
          </a:xfrm>
          <a:prstGeom prst="roundRect">
            <a:avLst>
              <a:gd name="adj" fmla="val 16667"/>
            </a:avLst>
          </a:prstGeom>
          <a:solidFill>
            <a:srgbClr val="ffcc00">
              <a:alpha val="1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Rounded Rectangle 6"/>
          <p:cNvSpPr/>
          <p:nvPr/>
        </p:nvSpPr>
        <p:spPr>
          <a:xfrm>
            <a:off x="76320" y="5105520"/>
            <a:ext cx="8915400" cy="1676160"/>
          </a:xfrm>
          <a:prstGeom prst="roundRect">
            <a:avLst>
              <a:gd name="adj" fmla="val 16667"/>
            </a:avLst>
          </a:prstGeom>
          <a:solidFill>
            <a:srgbClr val="ffcc00">
              <a:alpha val="1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"/>
          <p:cNvSpPr txBox="1"/>
          <p:nvPr/>
        </p:nvSpPr>
        <p:spPr>
          <a:xfrm>
            <a:off x="152280" y="1523880"/>
            <a:ext cx="87631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dministrativna provjera prijav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33133"/>
                </a:solidFill>
                <a:latin typeface="Arial"/>
              </a:rPr>
              <a:t>Završena 30. decembra 2013. god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33133"/>
                </a:solidFill>
                <a:latin typeface="Arial"/>
              </a:rPr>
              <a:t>Od ukupno prijavljenih 29 prijava, </a:t>
            </a:r>
            <a:r>
              <a:rPr b="1" lang="en-US" sz="2000" spc="-1" strike="noStrike" u="sng">
                <a:solidFill>
                  <a:srgbClr val="933133"/>
                </a:solidFill>
                <a:uFillTx/>
                <a:latin typeface="Arial"/>
              </a:rPr>
              <a:t>27 prijava je upućeno na prvu faz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 faza evalua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3133"/>
                </a:solidFill>
                <a:latin typeface="Arial"/>
              </a:rPr>
              <a:t>O</a:t>
            </a:r>
            <a:r>
              <a:rPr b="1" lang="sr-Latn-CS" sz="2000" spc="-1" strike="noStrike">
                <a:solidFill>
                  <a:srgbClr val="933133"/>
                </a:solidFill>
                <a:latin typeface="Arial"/>
              </a:rPr>
              <a:t>cjenj</a:t>
            </a:r>
            <a:r>
              <a:rPr b="1" lang="en-US" sz="2000" spc="-1" strike="noStrike">
                <a:solidFill>
                  <a:srgbClr val="933133"/>
                </a:solidFill>
                <a:latin typeface="Arial"/>
              </a:rPr>
              <a:t>ivanje</a:t>
            </a:r>
            <a:r>
              <a:rPr b="1" lang="sr-Latn-CS" sz="2000" spc="-1" strike="noStrike">
                <a:solidFill>
                  <a:srgbClr val="933133"/>
                </a:solidFill>
                <a:latin typeface="Arial"/>
              </a:rPr>
              <a:t> od strane 2 nezavisna naučna evaluatora, </a:t>
            </a:r>
            <a:r>
              <a:rPr b="0" lang="sr-Latn-CS" sz="2000" spc="-1" strike="noStrike">
                <a:solidFill>
                  <a:srgbClr val="933133"/>
                </a:solidFill>
                <a:latin typeface="Arial"/>
              </a:rPr>
              <a:t>eksperta iz određene naučne oblasti na koju se prijava odno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33133"/>
                </a:solidFill>
                <a:latin typeface="Arial"/>
              </a:rPr>
              <a:t>Fokus na </a:t>
            </a:r>
            <a:r>
              <a:rPr b="1" lang="en-US" sz="2000" spc="-1" strike="noStrike">
                <a:solidFill>
                  <a:srgbClr val="933133"/>
                </a:solidFill>
                <a:latin typeface="Arial"/>
              </a:rPr>
              <a:t>naučni i finansijski </a:t>
            </a:r>
            <a:r>
              <a:rPr b="0" lang="en-US" sz="2000" spc="-1" strike="noStrike">
                <a:solidFill>
                  <a:srgbClr val="933133"/>
                </a:solidFill>
                <a:latin typeface="Arial"/>
              </a:rPr>
              <a:t>aspekt projek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3133"/>
                </a:solidFill>
                <a:latin typeface="Arial"/>
              </a:rPr>
              <a:t>16 od ukupno 27 </a:t>
            </a:r>
            <a:r>
              <a:rPr b="0" lang="en-US" sz="2000" spc="-1" strike="noStrike">
                <a:solidFill>
                  <a:srgbClr val="933133"/>
                </a:solidFill>
                <a:latin typeface="Arial"/>
              </a:rPr>
              <a:t>prijava </a:t>
            </a:r>
            <a:r>
              <a:rPr b="1" lang="en-US" sz="2000" spc="-1" strike="noStrike">
                <a:solidFill>
                  <a:srgbClr val="933133"/>
                </a:solidFill>
                <a:latin typeface="Arial"/>
              </a:rPr>
              <a:t>prošlo u II fazu </a:t>
            </a:r>
            <a:r>
              <a:rPr b="0" lang="en-US" sz="2000" spc="-1" strike="noStrike">
                <a:solidFill>
                  <a:srgbClr val="933133"/>
                </a:solidFill>
                <a:latin typeface="Arial"/>
              </a:rPr>
              <a:t>(prosječna ocjena od strane dva evaluatora 70 ili više bodo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I fa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3133"/>
                </a:solidFill>
                <a:latin typeface="Arial"/>
              </a:rPr>
              <a:t>16 prijava ocijenjene od strane 3 međunarodna evaluat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33133"/>
                </a:solidFill>
                <a:latin typeface="Arial"/>
              </a:rPr>
              <a:t>Fokus na </a:t>
            </a:r>
            <a:r>
              <a:rPr b="1" lang="sr-Latn-CS" sz="2000" spc="-1" strike="noStrike">
                <a:solidFill>
                  <a:srgbClr val="933133"/>
                </a:solidFill>
                <a:latin typeface="Arial"/>
              </a:rPr>
              <a:t>inovativnost, konkurentnost, održivost i</a:t>
            </a:r>
            <a:r>
              <a:rPr b="0" lang="en-US" sz="2000" spc="-1" strike="noStrike">
                <a:solidFill>
                  <a:srgbClr val="9331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33133"/>
                </a:solidFill>
                <a:latin typeface="Arial"/>
              </a:rPr>
              <a:t>komercijalni </a:t>
            </a:r>
            <a:r>
              <a:rPr b="0" lang="en-US" sz="2000" spc="-1" strike="noStrike">
                <a:solidFill>
                  <a:srgbClr val="933133"/>
                </a:solidFill>
                <a:latin typeface="Arial"/>
              </a:rPr>
              <a:t>aspekt projek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Flowchart: Manual Operation 3"/>
          <p:cNvSpPr/>
          <p:nvPr/>
        </p:nvSpPr>
        <p:spPr>
          <a:xfrm>
            <a:off x="1219320" y="457200"/>
            <a:ext cx="6553080" cy="914400"/>
          </a:xfrm>
          <a:prstGeom prst="flowChartManualOperation">
            <a:avLst/>
          </a:prstGeom>
          <a:solidFill>
            <a:srgbClr val="9c343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es</a:t>
            </a:r>
            <a:r>
              <a:rPr b="1" lang="sr-Latn-RS" sz="2800" spc="-1" strike="noStrike">
                <a:solidFill>
                  <a:srgbClr val="ffffff"/>
                </a:solidFill>
                <a:latin typeface="Arial"/>
              </a:rPr>
              <a:t> evalu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"/>
          <p:cNvSpPr txBox="1"/>
          <p:nvPr/>
        </p:nvSpPr>
        <p:spPr>
          <a:xfrm>
            <a:off x="457200" y="182844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33133"/>
                </a:solidFill>
                <a:uFillTx/>
                <a:latin typeface="Arial"/>
              </a:rPr>
              <a:t>II faza (Finalna komisija za evaluacij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33133"/>
                </a:solidFill>
                <a:latin typeface="Arial"/>
              </a:rPr>
              <a:t>Komisija se </a:t>
            </a:r>
            <a:r>
              <a:rPr b="0" lang="sr-Latn-CS" sz="2400" spc="-1" strike="noStrike">
                <a:solidFill>
                  <a:srgbClr val="933133"/>
                </a:solidFill>
                <a:latin typeface="Arial"/>
              </a:rPr>
              <a:t>sastal</a:t>
            </a:r>
            <a:r>
              <a:rPr b="0" lang="en-US" sz="2400" spc="-1" strike="noStrike">
                <a:solidFill>
                  <a:srgbClr val="933133"/>
                </a:solidFill>
                <a:latin typeface="Arial"/>
              </a:rPr>
              <a:t>a </a:t>
            </a:r>
            <a:r>
              <a:rPr b="0" lang="sr-Latn-CS" sz="2400" spc="-1" strike="noStrike">
                <a:solidFill>
                  <a:srgbClr val="933133"/>
                </a:solidFill>
                <a:latin typeface="Arial"/>
              </a:rPr>
              <a:t>u Podgorici sredinom </a:t>
            </a:r>
            <a:r>
              <a:rPr b="0" lang="en-US" sz="2400" spc="-1" strike="noStrike">
                <a:solidFill>
                  <a:srgbClr val="933133"/>
                </a:solidFill>
                <a:latin typeface="Arial"/>
              </a:rPr>
              <a:t>mart</a:t>
            </a:r>
            <a:r>
              <a:rPr b="0" lang="sr-Latn-CS" sz="2400" spc="-1" strike="noStrike">
                <a:solidFill>
                  <a:srgbClr val="933133"/>
                </a:solidFill>
                <a:latin typeface="Arial"/>
              </a:rPr>
              <a:t>a 201</a:t>
            </a:r>
            <a:r>
              <a:rPr b="0" lang="en-US" sz="2400" spc="-1" strike="noStrike">
                <a:solidFill>
                  <a:srgbClr val="933133"/>
                </a:solidFill>
                <a:latin typeface="Arial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33133"/>
                </a:solidFill>
                <a:latin typeface="Arial"/>
              </a:rPr>
              <a:t>O</a:t>
            </a:r>
            <a:r>
              <a:rPr b="1" lang="sr-Latn-CS" sz="2400" spc="-1" strike="noStrike">
                <a:solidFill>
                  <a:srgbClr val="933133"/>
                </a:solidFill>
                <a:latin typeface="Arial"/>
              </a:rPr>
              <a:t>drža</a:t>
            </a:r>
            <a:r>
              <a:rPr b="1" lang="en-US" sz="2400" spc="-1" strike="noStrike">
                <a:solidFill>
                  <a:srgbClr val="933133"/>
                </a:solidFill>
                <a:latin typeface="Arial"/>
              </a:rPr>
              <a:t>ni </a:t>
            </a:r>
            <a:r>
              <a:rPr b="1" lang="sr-Latn-CS" sz="2400" spc="-1" strike="noStrike">
                <a:solidFill>
                  <a:srgbClr val="933133"/>
                </a:solidFill>
                <a:latin typeface="Arial"/>
              </a:rPr>
              <a:t>intervju</a:t>
            </a:r>
            <a:r>
              <a:rPr b="1" lang="en-US" sz="2400" spc="-1" strike="noStrike">
                <a:solidFill>
                  <a:srgbClr val="933133"/>
                </a:solidFill>
                <a:latin typeface="Arial"/>
              </a:rPr>
              <a:t>i</a:t>
            </a:r>
            <a:r>
              <a:rPr b="1" lang="sr-Latn-CS" sz="2400" spc="-1" strike="noStrike">
                <a:solidFill>
                  <a:srgbClr val="933133"/>
                </a:solidFill>
                <a:latin typeface="Arial"/>
              </a:rPr>
              <a:t> sa</a:t>
            </a:r>
            <a:r>
              <a:rPr b="0" lang="sr-Latn-CS" sz="2400" spc="-1" strike="noStrike">
                <a:solidFill>
                  <a:srgbClr val="9331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33133"/>
                </a:solidFill>
                <a:latin typeface="Arial"/>
              </a:rPr>
              <a:t>svih 16</a:t>
            </a:r>
            <a:r>
              <a:rPr b="1" lang="sr-Latn-CS" sz="2400" spc="-1" strike="noStrike">
                <a:solidFill>
                  <a:srgbClr val="933133"/>
                </a:solidFill>
                <a:latin typeface="Arial"/>
              </a:rPr>
              <a:t> podnosioca pri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33133"/>
                </a:solidFill>
                <a:latin typeface="Arial"/>
              </a:rPr>
              <a:t>Prezentirane projektne ideje od strane istraživačkih timov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33133"/>
                </a:solidFill>
                <a:latin typeface="Arial"/>
              </a:rPr>
              <a:t>Komisija postavljala dodatna pitanj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933133"/>
                </a:solidFill>
                <a:latin typeface="Arial"/>
              </a:rPr>
              <a:t>Komisija pripremi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3133"/>
                </a:solidFill>
                <a:latin typeface="Arial"/>
              </a:rPr>
              <a:t>Kona</a:t>
            </a:r>
            <a:r>
              <a:rPr b="1" lang="sr-Latn-RS" sz="2000" spc="-1" strike="noStrike">
                <a:solidFill>
                  <a:srgbClr val="933133"/>
                </a:solidFill>
                <a:latin typeface="Arial"/>
              </a:rPr>
              <a:t>č</a:t>
            </a:r>
            <a:r>
              <a:rPr b="1" lang="sr-Latn-CS" sz="2000" spc="-1" strike="noStrike">
                <a:solidFill>
                  <a:srgbClr val="933133"/>
                </a:solidFill>
                <a:latin typeface="Arial"/>
              </a:rPr>
              <a:t>nu rang listu prijav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33133"/>
                </a:solidFill>
                <a:latin typeface="Arial"/>
              </a:rPr>
              <a:t>Izvještaje o evaluacij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3133"/>
                </a:solidFill>
                <a:latin typeface="Arial"/>
              </a:rPr>
              <a:t>Preporuku Ministarstvu za finansir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Flowchart: Manual Operation 4"/>
          <p:cNvSpPr/>
          <p:nvPr/>
        </p:nvSpPr>
        <p:spPr>
          <a:xfrm>
            <a:off x="1219320" y="609480"/>
            <a:ext cx="6553080" cy="914400"/>
          </a:xfrm>
          <a:prstGeom prst="flowChartManualOperation">
            <a:avLst/>
          </a:prstGeom>
          <a:solidFill>
            <a:srgbClr val="9c343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es</a:t>
            </a:r>
            <a:r>
              <a:rPr b="1" lang="sr-Latn-RS" sz="2800" spc="-1" strike="noStrike">
                <a:solidFill>
                  <a:srgbClr val="ffffff"/>
                </a:solidFill>
                <a:latin typeface="Arial"/>
              </a:rPr>
              <a:t> evalu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7" name=""/>
          <p:cNvSpPr txBox="1"/>
          <p:nvPr/>
        </p:nvSpPr>
        <p:spPr>
          <a:xfrm>
            <a:off x="457200" y="15998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933133"/>
                </a:solidFill>
                <a:uFillTx/>
                <a:latin typeface="Arial"/>
              </a:rPr>
              <a:t>PREPORUKA FINALNE KOMIS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33133"/>
                </a:solidFill>
                <a:uFillTx/>
                <a:latin typeface="Arial"/>
              </a:rPr>
              <a:t>4 projekta su posebno preporučena</a:t>
            </a:r>
            <a:r>
              <a:rPr b="1" lang="sr-Latn-CS" sz="2400" spc="-1" strike="noStrike" u="sng">
                <a:solidFill>
                  <a:srgbClr val="933133"/>
                </a:solidFill>
                <a:uFillTx/>
                <a:latin typeface="Arial"/>
              </a:rPr>
              <a:t> za finansir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33133"/>
                </a:solidFill>
                <a:latin typeface="Arial"/>
              </a:rPr>
              <a:t>3 projekta ocijenjena pozitivno i preporučena za finansiranje uz odgovarajuće korek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933133"/>
                </a:solidFill>
                <a:latin typeface="Arial"/>
              </a:rPr>
              <a:t>9 projekata nije preporučeno za finansir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Flowchart: Manual Operation 3"/>
          <p:cNvSpPr/>
          <p:nvPr/>
        </p:nvSpPr>
        <p:spPr>
          <a:xfrm>
            <a:off x="1219320" y="609480"/>
            <a:ext cx="6553080" cy="914400"/>
          </a:xfrm>
          <a:prstGeom prst="flowChartManualOperation">
            <a:avLst/>
          </a:prstGeom>
          <a:solidFill>
            <a:srgbClr val="9c343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zultati</a:t>
            </a:r>
            <a:r>
              <a:rPr b="1" lang="sr-Latn-RS" sz="2800" spc="-1" strike="noStrike">
                <a:solidFill>
                  <a:srgbClr val="ffffff"/>
                </a:solidFill>
                <a:latin typeface="Arial"/>
              </a:rPr>
              <a:t> evalu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9" name="Table 4" descr=""/>
          <p:cNvPicPr/>
          <p:nvPr/>
        </p:nvPicPr>
        <p:blipFill>
          <a:blip r:embed="rId1"/>
          <a:stretch/>
        </p:blipFill>
        <p:spPr>
          <a:xfrm>
            <a:off x="-73080" y="1146240"/>
            <a:ext cx="9137880" cy="5718240"/>
          </a:xfrm>
          <a:prstGeom prst="rect">
            <a:avLst/>
          </a:prstGeom>
          <a:ln w="0">
            <a:noFill/>
          </a:ln>
        </p:spPr>
      </p:pic>
      <p:sp>
        <p:nvSpPr>
          <p:cNvPr id="2510" name="Flowchart: Manual Operation 5"/>
          <p:cNvSpPr/>
          <p:nvPr/>
        </p:nvSpPr>
        <p:spPr>
          <a:xfrm>
            <a:off x="914400" y="380880"/>
            <a:ext cx="7315200" cy="762120"/>
          </a:xfrm>
          <a:prstGeom prst="flowChartManualOperation">
            <a:avLst/>
          </a:prstGeom>
          <a:solidFill>
            <a:srgbClr val="9c343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ona</a:t>
            </a:r>
            <a:r>
              <a:rPr b="1" lang="sr-Latn-RS" sz="2400" spc="-1" strike="noStrike">
                <a:solidFill>
                  <a:srgbClr val="ffffff"/>
                </a:solidFill>
                <a:latin typeface="Arial"/>
              </a:rPr>
              <a:t>čna rang lista projek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Flowchart: Manual Operation 3"/>
          <p:cNvSpPr/>
          <p:nvPr/>
        </p:nvSpPr>
        <p:spPr>
          <a:xfrm>
            <a:off x="609480" y="533520"/>
            <a:ext cx="7620120" cy="761760"/>
          </a:xfrm>
          <a:prstGeom prst="flowChartManualOperation">
            <a:avLst/>
          </a:prstGeom>
          <a:solidFill>
            <a:srgbClr val="9c343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ebno preporu</a:t>
            </a:r>
            <a:r>
              <a:rPr b="1" lang="sr-Latn-RS" sz="2400" spc="-1" strike="noStrike">
                <a:solidFill>
                  <a:srgbClr val="ffffff"/>
                </a:solidFill>
                <a:latin typeface="Arial"/>
              </a:rPr>
              <a:t>čeni projek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Rounded Rectangle 6"/>
          <p:cNvSpPr/>
          <p:nvPr/>
        </p:nvSpPr>
        <p:spPr>
          <a:xfrm>
            <a:off x="228600" y="1600200"/>
            <a:ext cx="8458200" cy="1219320"/>
          </a:xfrm>
          <a:prstGeom prst="roundRect">
            <a:avLst>
              <a:gd name="adj" fmla="val 18907"/>
            </a:avLst>
          </a:prstGeom>
          <a:solidFill>
            <a:srgbClr val="9c343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ffff00"/>
                </a:solidFill>
                <a:latin typeface="Arial Narrow"/>
                <a:ea typeface="Times New Roman"/>
              </a:rPr>
              <a:t>              </a:t>
            </a:r>
            <a:r>
              <a:rPr b="1" lang="en-US" sz="2000" spc="-1" strike="noStrike" u="sng">
                <a:solidFill>
                  <a:srgbClr val="ffdebe"/>
                </a:solidFill>
                <a:uFillTx/>
                <a:latin typeface="Arial Narrow"/>
                <a:ea typeface="Times New Roman"/>
              </a:rPr>
              <a:t>CS-ICT</a:t>
            </a:r>
            <a:r>
              <a:rPr b="1" lang="en-US" sz="2000" spc="-1" strike="noStrike">
                <a:solidFill>
                  <a:srgbClr val="ffdebe"/>
                </a:solidFill>
                <a:latin typeface="Arial Narrow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debe"/>
                </a:solidFill>
                <a:latin typeface="Arial Narrow"/>
                <a:ea typeface="Times New Roman"/>
              </a:rPr>
              <a:t> </a:t>
            </a:r>
            <a:r>
              <a:rPr b="0" lang="sr-Latn-RS" sz="2000" spc="-1" strike="noStrike">
                <a:solidFill>
                  <a:srgbClr val="ffdebe"/>
                </a:solidFill>
                <a:latin typeface="Arial Narrow"/>
                <a:ea typeface="Times New Roman"/>
              </a:rPr>
              <a:t>                                 </a:t>
            </a:r>
            <a:r>
              <a:rPr b="1" lang="sr-Latn-RS" sz="2000" spc="-1" strike="noStrike">
                <a:solidFill>
                  <a:srgbClr val="ffdebe"/>
                </a:solidFill>
                <a:latin typeface="Arial Narrow"/>
                <a:ea typeface="Times New Roman"/>
              </a:rPr>
              <a:t>Iznos traženog granta:  387.294 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Elektrotehni</a:t>
            </a:r>
            <a:r>
              <a:rPr b="1" lang="sr-Latn-R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č</a:t>
            </a: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ki fakultet</a:t>
            </a:r>
            <a:r>
              <a:rPr b="1" lang="sr-Latn-R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(U</a:t>
            </a:r>
            <a:r>
              <a:rPr b="1" lang="sr-Latn-R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G</a:t>
            </a: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)</a:t>
            </a:r>
            <a:r>
              <a:rPr b="1" lang="sr-Latn-R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        </a:t>
            </a:r>
            <a:r>
              <a:rPr b="1" lang="sr-Latn-RS" sz="2000" spc="-1" strike="noStrike">
                <a:solidFill>
                  <a:srgbClr val="ffffff"/>
                </a:solidFill>
                <a:latin typeface="Arial Narrow"/>
              </a:rPr>
              <a:t>Rukovodilac: prof. dr Srđan Stankovi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N</a:t>
            </a:r>
            <a:r>
              <a:rPr b="1" lang="sr-Latn-RS" sz="2000" spc="-1" strike="noStrike">
                <a:solidFill>
                  <a:srgbClr val="ffff00"/>
                </a:solidFill>
                <a:latin typeface="Arial Narrow"/>
              </a:rPr>
              <a:t>ovi</a:t>
            </a: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 ICT </a:t>
            </a:r>
            <a:r>
              <a:rPr b="1" lang="sr-Latn-RS" sz="2000" spc="-1" strike="noStrike">
                <a:solidFill>
                  <a:srgbClr val="ffff00"/>
                </a:solidFill>
                <a:latin typeface="Arial Narrow"/>
              </a:rPr>
              <a:t>trendovi zasnovani na značajno manjem broju podataka/ mjerenja i njihova primjena u</a:t>
            </a: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 multimedi</a:t>
            </a:r>
            <a:r>
              <a:rPr b="1" lang="sr-Latn-RS" sz="2000" spc="-1" strike="noStrike">
                <a:solidFill>
                  <a:srgbClr val="ffff00"/>
                </a:solidFill>
                <a:latin typeface="Arial Narrow"/>
              </a:rPr>
              <a:t>j</a:t>
            </a: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a</a:t>
            </a:r>
            <a:r>
              <a:rPr b="1" lang="sr-Latn-RS" sz="2000" spc="-1" strike="noStrike">
                <a:solidFill>
                  <a:srgbClr val="ffff00"/>
                </a:solidFill>
                <a:latin typeface="Arial Narrow"/>
              </a:rPr>
              <a:t>ma</a:t>
            </a: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,</a:t>
            </a:r>
            <a:r>
              <a:rPr b="1" lang="sr-Latn-RS" sz="20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biomedicin</a:t>
            </a:r>
            <a:r>
              <a:rPr b="1" lang="sr-Latn-RS" sz="2000" spc="-1" strike="noStrike">
                <a:solidFill>
                  <a:srgbClr val="ffff00"/>
                </a:solidFill>
                <a:latin typeface="Arial Narrow"/>
              </a:rPr>
              <a:t>i i komunikacij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3" name="Rounded Rectangle 7"/>
          <p:cNvSpPr/>
          <p:nvPr/>
        </p:nvSpPr>
        <p:spPr>
          <a:xfrm>
            <a:off x="228600" y="2971800"/>
            <a:ext cx="8458200" cy="1143000"/>
          </a:xfrm>
          <a:prstGeom prst="roundRect">
            <a:avLst>
              <a:gd name="adj" fmla="val 16667"/>
            </a:avLst>
          </a:prstGeom>
          <a:solidFill>
            <a:srgbClr val="9331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ffff00"/>
                </a:solidFill>
                <a:latin typeface="Arial Narrow"/>
              </a:rPr>
              <a:t>              </a:t>
            </a:r>
            <a:r>
              <a:rPr b="1" lang="en-US" sz="2000" spc="-1" strike="noStrike" u="sng">
                <a:solidFill>
                  <a:srgbClr val="ffdebe"/>
                </a:solidFill>
                <a:uFillTx/>
                <a:latin typeface="Arial Narrow"/>
              </a:rPr>
              <a:t>PRODE</a:t>
            </a:r>
            <a:r>
              <a:rPr b="0" lang="en-US" sz="2000" spc="-1" strike="noStrike">
                <a:solidFill>
                  <a:srgbClr val="ffdebe"/>
                </a:solidFill>
                <a:latin typeface="Arial Narrow"/>
              </a:rPr>
              <a:t> </a:t>
            </a:r>
            <a:r>
              <a:rPr b="0" lang="sr-Latn-RS" sz="2000" spc="-1" strike="noStrike">
                <a:solidFill>
                  <a:srgbClr val="ffdebe"/>
                </a:solidFill>
                <a:latin typeface="Arial Narrow"/>
              </a:rPr>
              <a:t>                                 </a:t>
            </a:r>
            <a:r>
              <a:rPr b="1" lang="sr-Latn-RS" sz="2000" spc="-1" strike="noStrike">
                <a:solidFill>
                  <a:srgbClr val="ffdebe"/>
                </a:solidFill>
                <a:latin typeface="Arial Narrow"/>
              </a:rPr>
              <a:t>I</a:t>
            </a:r>
            <a:r>
              <a:rPr b="1" lang="sr-Latn-RS" sz="2000" spc="-1" strike="noStrike">
                <a:solidFill>
                  <a:srgbClr val="ffdebe"/>
                </a:solidFill>
                <a:latin typeface="Arial Narrow"/>
                <a:ea typeface="Times New Roman"/>
              </a:rPr>
              <a:t>znos traženog granta:  396.700 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Fakultet za politehniku (</a:t>
            </a:r>
            <a:r>
              <a:rPr b="1" lang="sr-Latn-RS" sz="2000" spc="-1" strike="noStrike">
                <a:solidFill>
                  <a:srgbClr val="ffffff"/>
                </a:solidFill>
                <a:latin typeface="Arial Narrow"/>
              </a:rPr>
              <a:t>UDG</a:t>
            </a: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)</a:t>
            </a:r>
            <a:r>
              <a:rPr b="1" lang="sr-Latn-RS" sz="2000" spc="-1" strike="noStrike">
                <a:solidFill>
                  <a:srgbClr val="ffffff"/>
                </a:solidFill>
                <a:latin typeface="Arial Narrow"/>
              </a:rPr>
              <a:t>          Rukovodilac: prof. dr Vladimir Ma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 Narrow"/>
              </a:rPr>
              <a:t>Laboratorija za dizajn proizvoda, uključujući discipline kao što su grafički, modni i dizajn enterij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4" name="Rounded Rectangle 8"/>
          <p:cNvSpPr/>
          <p:nvPr/>
        </p:nvSpPr>
        <p:spPr>
          <a:xfrm>
            <a:off x="228600" y="4267080"/>
            <a:ext cx="8458200" cy="1143000"/>
          </a:xfrm>
          <a:prstGeom prst="roundRect">
            <a:avLst>
              <a:gd name="adj" fmla="val 16667"/>
            </a:avLst>
          </a:prstGeom>
          <a:solidFill>
            <a:srgbClr val="9331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ffdebe"/>
                </a:solidFill>
                <a:latin typeface="Arial Narrow"/>
              </a:rPr>
              <a:t>              </a:t>
            </a:r>
            <a:r>
              <a:rPr b="1" lang="en-US" sz="2000" spc="-1" strike="noStrike" u="sng">
                <a:solidFill>
                  <a:srgbClr val="ffdebe"/>
                </a:solidFill>
                <a:uFillTx/>
                <a:latin typeface="Arial Narrow"/>
              </a:rPr>
              <a:t>LOVĆEN</a:t>
            </a:r>
            <a:r>
              <a:rPr b="1" lang="sr-Latn-RS" sz="2000" spc="-1" strike="noStrike">
                <a:solidFill>
                  <a:srgbClr val="ffdebe"/>
                </a:solidFill>
                <a:latin typeface="Arial Narrow"/>
              </a:rPr>
              <a:t>                                I</a:t>
            </a:r>
            <a:r>
              <a:rPr b="1" lang="sr-Latn-RS" sz="2000" spc="-1" strike="noStrike">
                <a:solidFill>
                  <a:srgbClr val="ffdebe"/>
                </a:solidFill>
                <a:latin typeface="Arial Narrow"/>
                <a:ea typeface="Times New Roman"/>
              </a:rPr>
              <a:t>znos traženog granta:  397.998 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ffdebe"/>
                </a:solidFill>
                <a:latin typeface="Arial Narro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Biotehnički fakultet (</a:t>
            </a:r>
            <a:r>
              <a:rPr b="1" lang="sr-Latn-RS" sz="2000" spc="-1" strike="noStrike">
                <a:solidFill>
                  <a:srgbClr val="ffffff"/>
                </a:solidFill>
                <a:latin typeface="Arial Narrow"/>
              </a:rPr>
              <a:t>UCG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)</a:t>
            </a:r>
            <a:r>
              <a:rPr b="1" lang="sr-Latn-RS" sz="2000" spc="-1" strike="noStrike">
                <a:solidFill>
                  <a:srgbClr val="ffffff"/>
                </a:solidFill>
                <a:latin typeface="Arial Narrow"/>
              </a:rPr>
              <a:t>              Rukovodilac: dr Igor Pajovi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Nad</a:t>
            </a:r>
            <a:r>
              <a:rPr b="1" lang="sr-Latn-RS" sz="2000" spc="-1" strike="noStrike">
                <a:solidFill>
                  <a:srgbClr val="ffff00"/>
                </a:solidFill>
                <a:latin typeface="Arial Narrow"/>
              </a:rPr>
              <a:t>z</a:t>
            </a: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or nad invazivnim i domaćim vrstama komaraca i patogenima koje mogu prenijeti u Crnoj G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5" name="Rounded Rectangle 9"/>
          <p:cNvSpPr/>
          <p:nvPr/>
        </p:nvSpPr>
        <p:spPr>
          <a:xfrm>
            <a:off x="228600" y="5562720"/>
            <a:ext cx="8458200" cy="1066680"/>
          </a:xfrm>
          <a:prstGeom prst="roundRect">
            <a:avLst>
              <a:gd name="adj" fmla="val 16667"/>
            </a:avLst>
          </a:prstGeom>
          <a:solidFill>
            <a:srgbClr val="9331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2aa"/>
                </a:solidFill>
                <a:latin typeface="Arial Narrow"/>
                <a:ea typeface="Times New Roman"/>
              </a:rPr>
              <a:t>              </a:t>
            </a:r>
            <a:r>
              <a:rPr b="1" lang="en-US" sz="2000" spc="-1" strike="noStrike" u="sng">
                <a:solidFill>
                  <a:srgbClr val="ffdebe"/>
                </a:solidFill>
                <a:uFillTx/>
                <a:latin typeface="Arial Narrow"/>
                <a:ea typeface="Times New Roman"/>
              </a:rPr>
              <a:t>SUST-MARINA</a:t>
            </a:r>
            <a:r>
              <a:rPr b="1" lang="en-US" sz="2000" spc="-1" strike="noStrike">
                <a:solidFill>
                  <a:srgbClr val="ffdebe"/>
                </a:solidFill>
                <a:latin typeface="Arial Narrow"/>
                <a:ea typeface="Times New Roman"/>
              </a:rPr>
              <a:t>                      Iznos traženog granta:  255.366 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Fakultet za pomorstvo (UCG)         </a:t>
            </a: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Rukovodilac: prof. dr Branislav Dragovi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Narro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 Narrow"/>
                <a:ea typeface="Times New Roman"/>
              </a:rPr>
              <a:t>Primjena i promocija koncepta održivog razvoja na AD Marina 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6" name=""/>
          <p:cNvSpPr txBox="1"/>
          <p:nvPr/>
        </p:nvSpPr>
        <p:spPr>
          <a:xfrm>
            <a:off x="228600" y="19047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33133"/>
                </a:solidFill>
                <a:latin typeface="Arial"/>
              </a:rPr>
              <a:t>PREGOVORI O ZAKLJUČENJU UGOVORA O DODJELI GRANT</a:t>
            </a:r>
            <a:r>
              <a:rPr b="1" lang="en-US" sz="2000" spc="-1" strike="noStrike">
                <a:solidFill>
                  <a:srgbClr val="933133"/>
                </a:solidFill>
                <a:latin typeface="Arial"/>
              </a:rPr>
              <a:t>O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33133"/>
                </a:solidFill>
                <a:latin typeface="Arial"/>
              </a:rPr>
              <a:t>4 prvorangirana tima </a:t>
            </a:r>
            <a:r>
              <a:rPr b="0" lang="sr-Latn-CS" sz="2000" spc="-1" strike="noStrike">
                <a:solidFill>
                  <a:srgbClr val="933133"/>
                </a:solidFill>
                <a:latin typeface="Arial"/>
              </a:rPr>
              <a:t>će biti pozvana na pregov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933133"/>
                </a:solidFill>
                <a:latin typeface="Arial"/>
              </a:rPr>
              <a:t>Usaglašavanje svih aspekata prijav</a:t>
            </a:r>
            <a:r>
              <a:rPr b="0" lang="en-US" sz="2000" spc="-1" strike="noStrike">
                <a:solidFill>
                  <a:srgbClr val="933133"/>
                </a:solidFill>
                <a:latin typeface="Arial"/>
              </a:rPr>
              <a:t>a</a:t>
            </a:r>
            <a:r>
              <a:rPr b="0" lang="sr-Latn-CS" sz="2000" spc="-1" strike="noStrike">
                <a:solidFill>
                  <a:srgbClr val="933133"/>
                </a:solidFill>
                <a:latin typeface="Arial"/>
              </a:rPr>
              <a:t> na osnovu komentara i preporuka međunarodnih evaluat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933133"/>
                </a:solidFill>
                <a:latin typeface="Arial"/>
              </a:rPr>
              <a:t>Aspekti za usaglašavanje: naučni, pravni, finansijski i tehnič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33133"/>
                </a:solidFill>
                <a:latin typeface="Arial"/>
              </a:rPr>
              <a:t>POTPISIVANJE UGOV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33133"/>
                </a:solidFill>
                <a:latin typeface="Arial"/>
              </a:rPr>
              <a:t>Praćenje realizacije projek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933133"/>
                </a:solidFill>
                <a:latin typeface="Arial"/>
              </a:rPr>
              <a:t>Ministarstvo nauke i Svjetska banka vršiće kontinuirani monitoring i periodičnu nezavisnu evaluaciju</a:t>
            </a:r>
            <a:r>
              <a:rPr b="0" lang="en-US" sz="2400" spc="-1" strike="noStrike">
                <a:solidFill>
                  <a:srgbClr val="933133"/>
                </a:solidFill>
                <a:latin typeface="Arial"/>
              </a:rPr>
              <a:t> realizacije projek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7" name="Flowchart: Manual Operation 4"/>
          <p:cNvSpPr/>
          <p:nvPr/>
        </p:nvSpPr>
        <p:spPr>
          <a:xfrm>
            <a:off x="1600200" y="609480"/>
            <a:ext cx="5867280" cy="914400"/>
          </a:xfrm>
          <a:prstGeom prst="flowChartManualOperation">
            <a:avLst/>
          </a:prstGeom>
          <a:solidFill>
            <a:srgbClr val="9c343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sr-Latn-RS" sz="2800" spc="-1" strike="noStrike">
                <a:solidFill>
                  <a:srgbClr val="ffffff"/>
                </a:solidFill>
                <a:latin typeface="Arial"/>
              </a:rPr>
              <a:t>aredni kora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c3436"/>
                </a:solidFill>
                <a:latin typeface="Arial"/>
              </a:rPr>
              <a:t>NA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33133"/>
                </a:solidFill>
                <a:latin typeface="Arial"/>
              </a:rPr>
              <a:t>Novi konkurs za grantove istraživanja i razvo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3133"/>
                </a:solidFill>
                <a:latin typeface="Arial"/>
              </a:rPr>
              <a:t>Nakon završenih pregovora sa 4 izabrana projekta - sredinom 2014. god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3133"/>
                </a:solidFill>
                <a:latin typeface="Arial"/>
              </a:rPr>
              <a:t>Slični uslovi prijavlji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3133"/>
                </a:solidFill>
                <a:latin typeface="Arial"/>
              </a:rPr>
              <a:t>Unaprijed će biti poznat datum novog Konkur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3133"/>
                </a:solidFill>
                <a:latin typeface="Arial"/>
              </a:rPr>
              <a:t>Otvoren 2-3 mjese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33133"/>
                </a:solidFill>
                <a:latin typeface="Arial"/>
              </a:rPr>
              <a:t>Organizovanje radionica za zainteresovane kandi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20000"/>
                </a:solidFill>
                <a:uFillTx/>
                <a:latin typeface="Arial"/>
              </a:rPr>
              <a:t>SREĆN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9" name="Flowchart: Manual Operation 5"/>
          <p:cNvSpPr/>
          <p:nvPr/>
        </p:nvSpPr>
        <p:spPr>
          <a:xfrm>
            <a:off x="1600200" y="609480"/>
            <a:ext cx="5867280" cy="914400"/>
          </a:xfrm>
          <a:prstGeom prst="flowChartManualOperation">
            <a:avLst/>
          </a:prstGeom>
          <a:solidFill>
            <a:srgbClr val="9c343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sr-Latn-RS" sz="2800" spc="-1" strike="noStrike">
                <a:solidFill>
                  <a:srgbClr val="ffffff"/>
                </a:solidFill>
                <a:latin typeface="Arial"/>
              </a:rPr>
              <a:t>aredni kora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"/>
          <p:cNvSpPr txBox="1"/>
          <p:nvPr/>
        </p:nvSpPr>
        <p:spPr>
          <a:xfrm>
            <a:off x="304560" y="1828800"/>
            <a:ext cx="8305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33133"/>
                </a:solidFill>
                <a:latin typeface="Arial"/>
              </a:rPr>
              <a:t>Integrisati naučni i stručni potencijal u Crnoj Gori kako bi se doprinijelo razvoju društva zasnovanog na znanj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33133"/>
                </a:solidFill>
                <a:latin typeface="Arial"/>
              </a:rPr>
              <a:t>Jačanje kvalitetnih i održivih partnerstava koja pokazuju potencijal da integrišu istraživanje u dominantne ekonomske pokretače Crne Gore i da prerastu u buduće centre uspješnos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9" name="Rectangle 8"/>
          <p:cNvSpPr/>
          <p:nvPr/>
        </p:nvSpPr>
        <p:spPr>
          <a:xfrm>
            <a:off x="517680" y="573120"/>
            <a:ext cx="8229600" cy="576360"/>
          </a:xfrm>
          <a:prstGeom prst="rect">
            <a:avLst/>
          </a:prstGeom>
          <a:solidFill>
            <a:srgbClr val="9c34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Šta je cilj programa istraživačkih grantov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0" name="Picture 3" descr="MNAmejl.JPG"/>
          <p:cNvPicPr/>
          <p:nvPr/>
        </p:nvPicPr>
        <p:blipFill>
          <a:blip r:embed="rId1"/>
          <a:stretch/>
        </p:blipFill>
        <p:spPr>
          <a:xfrm>
            <a:off x="642960" y="1828800"/>
            <a:ext cx="1947960" cy="4051440"/>
          </a:xfrm>
          <a:prstGeom prst="rect">
            <a:avLst/>
          </a:prstGeom>
          <a:ln w="0">
            <a:noFill/>
          </a:ln>
        </p:spPr>
      </p:pic>
      <p:sp>
        <p:nvSpPr>
          <p:cNvPr id="2521" name="Rectangle 3"/>
          <p:cNvSpPr/>
          <p:nvPr/>
        </p:nvSpPr>
        <p:spPr>
          <a:xfrm>
            <a:off x="3276720" y="1676520"/>
            <a:ext cx="5221080" cy="37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00000"/>
                </a:solidFill>
                <a:latin typeface="Arial"/>
              </a:rPr>
              <a:t>Saša Ivanovi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sa.ivanovic@mna.gov.m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Arial"/>
              </a:rPr>
              <a:t>Projektni menadžer za istraži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2" name="Rectangle 4"/>
          <p:cNvSpPr/>
          <p:nvPr/>
        </p:nvSpPr>
        <p:spPr>
          <a:xfrm>
            <a:off x="533520" y="610704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60000"/>
                </a:solidFill>
                <a:latin typeface="Arial"/>
              </a:rPr>
              <a:t>www.</a:t>
            </a:r>
            <a:r>
              <a:rPr b="1" lang="en-US" sz="1800" spc="-1" strike="noStrike">
                <a:solidFill>
                  <a:srgbClr val="f60000"/>
                </a:solidFill>
                <a:latin typeface="Arial"/>
              </a:rPr>
              <a:t>mna.gov.m</a:t>
            </a:r>
            <a:r>
              <a:rPr b="1" lang="hr-HR" sz="1800" spc="-1" strike="noStrike">
                <a:solidFill>
                  <a:srgbClr val="f60000"/>
                </a:solidFill>
                <a:latin typeface="Arial"/>
              </a:rPr>
              <a:t>e                                          www.heric.m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3" name="Picture 6" descr="Heric logo"/>
          <p:cNvPicPr/>
          <p:nvPr/>
        </p:nvPicPr>
        <p:blipFill>
          <a:blip r:embed="rId2"/>
          <a:stretch/>
        </p:blipFill>
        <p:spPr>
          <a:xfrm>
            <a:off x="4267080" y="4267080"/>
            <a:ext cx="3343320" cy="1447920"/>
          </a:xfrm>
          <a:prstGeom prst="rect">
            <a:avLst/>
          </a:prstGeom>
          <a:ln w="0">
            <a:noFill/>
          </a:ln>
        </p:spPr>
      </p:pic>
      <p:sp>
        <p:nvSpPr>
          <p:cNvPr id="2524" name="Flowchart: Manual Operation 7"/>
          <p:cNvSpPr/>
          <p:nvPr/>
        </p:nvSpPr>
        <p:spPr>
          <a:xfrm>
            <a:off x="1600200" y="533520"/>
            <a:ext cx="6553080" cy="914400"/>
          </a:xfrm>
          <a:prstGeom prst="flowChartManualOperation">
            <a:avLst/>
          </a:prstGeom>
          <a:solidFill>
            <a:srgbClr val="9c343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vala na pažn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0" name=""/>
          <p:cNvSpPr txBox="1"/>
          <p:nvPr/>
        </p:nvSpPr>
        <p:spPr>
          <a:xfrm>
            <a:off x="151920" y="1447920"/>
            <a:ext cx="8991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600" spc="-1" strike="noStrike">
                <a:solidFill>
                  <a:srgbClr val="933133"/>
                </a:solidFill>
                <a:latin typeface="Arial"/>
              </a:rPr>
              <a:t>Podržati istraživačke timove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600" spc="-1" strike="noStrike">
                <a:solidFill>
                  <a:srgbClr val="933133"/>
                </a:solidFill>
                <a:latin typeface="Arial"/>
              </a:rPr>
              <a:t>Podržati stvaranje partnerstava između istraživačkih ustanova u Crnoj Gori i inostranstvu, kao </a:t>
            </a:r>
            <a:r>
              <a:rPr b="0" lang="en-US" sz="2600" spc="-1" strike="noStrike">
                <a:solidFill>
                  <a:srgbClr val="933133"/>
                </a:solidFill>
                <a:latin typeface="Arial"/>
              </a:rPr>
              <a:t>jačanje saradnje sa</a:t>
            </a:r>
            <a:r>
              <a:rPr b="0" lang="sr-Latn-BA" sz="2600" spc="-1" strike="noStrike">
                <a:solidFill>
                  <a:srgbClr val="933133"/>
                </a:solidFill>
                <a:latin typeface="Arial"/>
              </a:rPr>
              <a:t> privrednim sektorom iz zemlje i inostranstva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600" spc="-1" strike="noStrike">
                <a:solidFill>
                  <a:srgbClr val="933133"/>
                </a:solidFill>
                <a:latin typeface="Arial"/>
              </a:rPr>
              <a:t>Podići nivo ulaganja privrednog sektora u istraživanje i razvoj i jačanje istraživačko-razvojnih kapaciteta u sektoru privrede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600" spc="-1" strike="noStrike">
                <a:solidFill>
                  <a:srgbClr val="933133"/>
                </a:solidFill>
                <a:latin typeface="Arial"/>
              </a:rPr>
              <a:t>Podstaći mobilnost istraživača i ubrzati transfer znanja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600" spc="-1" strike="noStrike">
                <a:solidFill>
                  <a:srgbClr val="933133"/>
                </a:solidFill>
                <a:latin typeface="Arial"/>
              </a:rPr>
              <a:t>Modernizovati istraživačku opremu i stvoriti uslove za zajedničko korišćenje postojeće i nove opreme; 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600" spc="-1" strike="noStrike">
                <a:solidFill>
                  <a:srgbClr val="933133"/>
                </a:solidFill>
                <a:latin typeface="Arial"/>
              </a:rPr>
              <a:t>Podstaći komercijalizaciju rezultata naučnih istraživanj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1" name="Title 1"/>
          <p:cNvSpPr/>
          <p:nvPr/>
        </p:nvSpPr>
        <p:spPr>
          <a:xfrm>
            <a:off x="533520" y="457200"/>
            <a:ext cx="8258040" cy="828720"/>
          </a:xfrm>
          <a:prstGeom prst="rect">
            <a:avLst/>
          </a:prstGeom>
          <a:solidFill>
            <a:srgbClr val="9c34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800" spc="-1" strike="noStrike">
                <a:solidFill>
                  <a:srgbClr val="ffffff"/>
                </a:solidFill>
                <a:latin typeface="Arial"/>
              </a:rPr>
              <a:t>Specifični ciljevi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gra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traživačkih grant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428400" y="619200"/>
            <a:ext cx="8258040" cy="828720"/>
          </a:xfrm>
          <a:prstGeom prst="rect">
            <a:avLst/>
          </a:prstGeom>
          <a:solidFill>
            <a:srgbClr val="9c343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ioritetne oblasti istra</a:t>
            </a:r>
            <a:r>
              <a:rPr b="1" lang="sr-Latn-RS" sz="2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v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3" name="Diagram 3" descr=""/>
          <p:cNvPicPr/>
          <p:nvPr/>
        </p:nvPicPr>
        <p:blipFill>
          <a:blip r:embed="rId1"/>
          <a:stretch/>
        </p:blipFill>
        <p:spPr>
          <a:xfrm>
            <a:off x="987480" y="1657440"/>
            <a:ext cx="701676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2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"/>
          <p:cNvSpPr txBox="1"/>
          <p:nvPr/>
        </p:nvSpPr>
        <p:spPr>
          <a:xfrm>
            <a:off x="533520" y="137124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33133"/>
                </a:solidFill>
                <a:latin typeface="Arial"/>
              </a:rPr>
              <a:t>Nosilac istraživanja je licencirana naučnoistraživačka ustanova iz Crne G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933133"/>
                </a:solidFill>
                <a:latin typeface="Arial"/>
              </a:rPr>
              <a:t>Nosilac istraživanja se mora prijaviti u partnerstvu sa </a:t>
            </a:r>
            <a:r>
              <a:rPr b="0" lang="en-US" sz="2800" spc="-1" strike="noStrike">
                <a:solidFill>
                  <a:srgbClr val="933133"/>
                </a:solidFill>
                <a:latin typeface="Arial"/>
              </a:rPr>
              <a:t>minimum jednom </a:t>
            </a:r>
            <a:r>
              <a:rPr b="0" lang="hr-HR" sz="2800" spc="-1" strike="noStrike">
                <a:solidFill>
                  <a:srgbClr val="933133"/>
                </a:solidFill>
                <a:latin typeface="Arial"/>
              </a:rPr>
              <a:t>istraživačkom ustanovom</a:t>
            </a:r>
            <a:r>
              <a:rPr b="0" lang="en-US" sz="2800" spc="-1" strike="noStrike">
                <a:solidFill>
                  <a:srgbClr val="933133"/>
                </a:solidFill>
                <a:latin typeface="Arial"/>
              </a:rPr>
              <a:t> iz inostranstva</a:t>
            </a:r>
            <a:r>
              <a:rPr b="0" lang="hr-HR" sz="2800" spc="-1" strike="noStrike">
                <a:solidFill>
                  <a:srgbClr val="933133"/>
                </a:solidFill>
                <a:latin typeface="Arial"/>
              </a:rPr>
              <a:t> i </a:t>
            </a:r>
            <a:r>
              <a:rPr b="0" lang="en-US" sz="2800" spc="-1" strike="noStrike">
                <a:solidFill>
                  <a:srgbClr val="933133"/>
                </a:solidFill>
                <a:latin typeface="Arial"/>
              </a:rPr>
              <a:t>jednim </a:t>
            </a:r>
            <a:r>
              <a:rPr b="0" lang="hr-HR" sz="2800" spc="-1" strike="noStrike">
                <a:solidFill>
                  <a:srgbClr val="933133"/>
                </a:solidFill>
                <a:latin typeface="Arial"/>
              </a:rPr>
              <a:t>partnerom iz privre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933133"/>
                </a:solidFill>
                <a:latin typeface="Arial"/>
              </a:rPr>
              <a:t>Projekat mora biti primijenjen</a:t>
            </a:r>
            <a:r>
              <a:rPr b="0" lang="en-US" sz="2800" spc="-1" strike="noStrike">
                <a:solidFill>
                  <a:srgbClr val="933133"/>
                </a:solidFill>
                <a:latin typeface="Arial"/>
              </a:rPr>
              <a:t>i</a:t>
            </a:r>
            <a:r>
              <a:rPr b="0" lang="hr-HR" sz="2800" spc="-1" strike="noStrike">
                <a:solidFill>
                  <a:srgbClr val="933133"/>
                </a:solidFill>
                <a:latin typeface="Arial"/>
              </a:rPr>
              <a:t> ili razvojn</a:t>
            </a:r>
            <a:r>
              <a:rPr b="0" lang="en-US" sz="2800" spc="-1" strike="noStrike">
                <a:solidFill>
                  <a:srgbClr val="933133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spcAft>
                <a:spcPts val="1199"/>
              </a:spcAft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933133"/>
                </a:solidFill>
                <a:latin typeface="Arial"/>
              </a:rPr>
              <a:t>Preporučuju se interdisciplinarni projek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Title 1"/>
          <p:cNvSpPr/>
          <p:nvPr/>
        </p:nvSpPr>
        <p:spPr>
          <a:xfrm>
            <a:off x="428760" y="542880"/>
            <a:ext cx="8258040" cy="828720"/>
          </a:xfrm>
          <a:prstGeom prst="rect">
            <a:avLst/>
          </a:prstGeom>
          <a:solidFill>
            <a:srgbClr val="9c34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lovi za prijavljivanje na Konku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762120"/>
          </a:xfrm>
          <a:prstGeom prst="rect">
            <a:avLst/>
          </a:prstGeom>
          <a:solidFill>
            <a:srgbClr val="9c343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ffff"/>
                </a:solidFill>
                <a:latin typeface="Arial"/>
              </a:rPr>
              <a:t>Konkurs z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djelu grant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"/>
          <p:cNvSpPr txBox="1"/>
          <p:nvPr/>
        </p:nvSpPr>
        <p:spPr>
          <a:xfrm>
            <a:off x="4572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33133"/>
                </a:solidFill>
                <a:latin typeface="Arial"/>
              </a:rPr>
              <a:t>O</a:t>
            </a:r>
            <a:r>
              <a:rPr b="0" lang="bs-BA" sz="2400" spc="-1" strike="noStrike">
                <a:solidFill>
                  <a:srgbClr val="933133"/>
                </a:solidFill>
                <a:latin typeface="Arial"/>
              </a:rPr>
              <a:t>bjav</a:t>
            </a:r>
            <a:r>
              <a:rPr b="0" lang="en-US" sz="2400" spc="-1" strike="noStrike">
                <a:solidFill>
                  <a:srgbClr val="933133"/>
                </a:solidFill>
                <a:latin typeface="Arial"/>
              </a:rPr>
              <a:t>a </a:t>
            </a:r>
            <a:r>
              <a:rPr b="0" lang="bs-BA" sz="2400" spc="-1" strike="noStrike">
                <a:solidFill>
                  <a:srgbClr val="933133"/>
                </a:solidFill>
                <a:latin typeface="Arial"/>
              </a:rPr>
              <a:t>Konkurs</a:t>
            </a:r>
            <a:r>
              <a:rPr b="0" lang="en-US" sz="2400" spc="-1" strike="noStrike">
                <a:solidFill>
                  <a:srgbClr val="933133"/>
                </a:solidFill>
                <a:latin typeface="Arial"/>
              </a:rPr>
              <a:t>a</a:t>
            </a:r>
            <a:r>
              <a:rPr b="0" lang="bs-BA" sz="2400" spc="-1" strike="noStrike">
                <a:solidFill>
                  <a:srgbClr val="9331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33133"/>
                </a:solidFill>
                <a:latin typeface="Arial"/>
              </a:rPr>
              <a:t>18</a:t>
            </a:r>
            <a:r>
              <a:rPr b="1" lang="bs-BA" sz="2400" spc="-1" strike="noStrike">
                <a:solidFill>
                  <a:srgbClr val="933133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933133"/>
                </a:solidFill>
                <a:latin typeface="Arial"/>
              </a:rPr>
              <a:t>oktobar</a:t>
            </a:r>
            <a:r>
              <a:rPr b="1" lang="bs-BA" sz="2400" spc="-1" strike="noStrike">
                <a:solidFill>
                  <a:srgbClr val="933133"/>
                </a:solidFill>
                <a:latin typeface="Arial"/>
              </a:rPr>
              <a:t> 2013</a:t>
            </a:r>
            <a:r>
              <a:rPr b="0" lang="bs-BA" sz="2400" spc="-1" strike="noStrike">
                <a:solidFill>
                  <a:srgbClr val="933133"/>
                </a:solidFill>
                <a:latin typeface="Arial"/>
              </a:rPr>
              <a:t>. god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33133"/>
                </a:solidFill>
                <a:latin typeface="Arial"/>
              </a:rPr>
              <a:t>Rok za dostavljanje </a:t>
            </a:r>
            <a:r>
              <a:rPr b="0" lang="en-US" sz="2400" spc="-1" strike="noStrike">
                <a:solidFill>
                  <a:srgbClr val="933133"/>
                </a:solidFill>
                <a:latin typeface="Arial"/>
              </a:rPr>
              <a:t>prijava</a:t>
            </a:r>
            <a:r>
              <a:rPr b="1" lang="pl-PL" sz="2400" spc="-1" strike="noStrike">
                <a:solidFill>
                  <a:srgbClr val="933133"/>
                </a:solidFill>
                <a:latin typeface="Arial"/>
              </a:rPr>
              <a:t>: 17. decembar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933133"/>
                </a:solidFill>
                <a:latin typeface="Arial"/>
              </a:rPr>
              <a:t>Iznos granta: </a:t>
            </a:r>
            <a:r>
              <a:rPr b="1" lang="en-US" sz="2400" spc="-1" strike="noStrike">
                <a:solidFill>
                  <a:srgbClr val="933133"/>
                </a:solidFill>
                <a:latin typeface="Arial"/>
              </a:rPr>
              <a:t>od 150.000€ do 400.000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33133"/>
                </a:solidFill>
                <a:latin typeface="Arial"/>
              </a:rPr>
              <a:t>Realizacija </a:t>
            </a:r>
            <a:r>
              <a:rPr b="0" lang="de-DE" sz="2400" spc="-1" strike="noStrike">
                <a:solidFill>
                  <a:srgbClr val="933133"/>
                </a:solidFill>
                <a:latin typeface="Arial"/>
              </a:rPr>
              <a:t>projekata do </a:t>
            </a:r>
            <a:r>
              <a:rPr b="1" lang="en-US" sz="2400" spc="-1" strike="noStrike">
                <a:solidFill>
                  <a:srgbClr val="933133"/>
                </a:solidFill>
                <a:latin typeface="Arial"/>
              </a:rPr>
              <a:t>3 </a:t>
            </a:r>
            <a:r>
              <a:rPr b="1" lang="de-DE" sz="2400" spc="-1" strike="noStrike">
                <a:solidFill>
                  <a:srgbClr val="933133"/>
                </a:solidFill>
                <a:latin typeface="Arial"/>
              </a:rPr>
              <a:t>god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400" spc="-1" strike="noStrike" u="sng">
                <a:solidFill>
                  <a:srgbClr val="933133"/>
                </a:solidFill>
                <a:uFillTx/>
                <a:latin typeface="Arial"/>
              </a:rPr>
              <a:t>Ukupno prijavljeno </a:t>
            </a:r>
            <a:r>
              <a:rPr b="1" lang="en-US" sz="2400" spc="-1" strike="noStrike" u="sng">
                <a:solidFill>
                  <a:srgbClr val="933133"/>
                </a:solidFill>
                <a:uFillTx/>
                <a:latin typeface="Arial"/>
              </a:rPr>
              <a:t>29</a:t>
            </a:r>
            <a:r>
              <a:rPr b="1" lang="bs-BA" sz="2400" spc="-1" strike="noStrike" u="sng">
                <a:solidFill>
                  <a:srgbClr val="933133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933133"/>
                </a:solidFill>
                <a:uFillTx/>
                <a:latin typeface="Arial"/>
              </a:rPr>
              <a:t>predloga projekata </a:t>
            </a:r>
            <a:r>
              <a:rPr b="0" lang="bs-BA" sz="2400" spc="-1" strike="noStrike">
                <a:solidFill>
                  <a:srgbClr val="933133"/>
                </a:solidFill>
                <a:latin typeface="Arial"/>
              </a:rPr>
              <a:t>naučnoistraživačkih ustanova iz Crne G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8" name="Chart 5"/>
          <p:cNvGraphicFramePr/>
          <p:nvPr/>
        </p:nvGraphicFramePr>
        <p:xfrm>
          <a:off x="465120" y="1828800"/>
          <a:ext cx="8259840" cy="5129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79" name="Char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1828800"/>
                    <a:ext cx="8259840" cy="51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0" name="Flowchart: Manual Operation 3"/>
          <p:cNvSpPr/>
          <p:nvPr/>
        </p:nvSpPr>
        <p:spPr>
          <a:xfrm>
            <a:off x="1219320" y="609480"/>
            <a:ext cx="6553080" cy="914400"/>
          </a:xfrm>
          <a:prstGeom prst="flowChartManualOperation">
            <a:avLst/>
          </a:prstGeom>
          <a:solidFill>
            <a:srgbClr val="9c343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ffff"/>
                </a:solidFill>
                <a:latin typeface="Arial"/>
              </a:rPr>
              <a:t>Statistik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sr-Latn-RS" sz="2800" spc="-1" strike="noStrike">
                <a:solidFill>
                  <a:srgbClr val="ffffff"/>
                </a:solidFill>
                <a:latin typeface="Arial"/>
              </a:rPr>
              <a:t>onkur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Rectangle 5"/>
          <p:cNvSpPr/>
          <p:nvPr/>
        </p:nvSpPr>
        <p:spPr>
          <a:xfrm>
            <a:off x="2762640" y="1752480"/>
            <a:ext cx="350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33133"/>
                </a:solidFill>
                <a:uFillTx/>
                <a:latin typeface="Arial"/>
              </a:rPr>
              <a:t>29</a:t>
            </a:r>
            <a:r>
              <a:rPr b="1" lang="sr-Latn-RS" sz="2800" spc="-1" strike="noStrike" u="sng">
                <a:solidFill>
                  <a:srgbClr val="933133"/>
                </a:solidFill>
                <a:uFillTx/>
                <a:latin typeface="Arial"/>
              </a:rPr>
              <a:t> prijava projek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"/>
          <p:cNvSpPr txBox="1"/>
          <p:nvPr/>
        </p:nvSpPr>
        <p:spPr>
          <a:xfrm>
            <a:off x="0" y="17524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c40000"/>
                </a:solidFill>
                <a:latin typeface="Arial"/>
              </a:rPr>
              <a:t>Univerzitet Crne Gore: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00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c40000"/>
                </a:solidFill>
                <a:latin typeface="Arial"/>
              </a:rPr>
              <a:t>Elektrotehnički fakultet: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00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c40000"/>
                </a:solidFill>
                <a:latin typeface="Arial"/>
              </a:rPr>
              <a:t>Mašinski fakultet: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00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c40000"/>
                </a:solidFill>
                <a:latin typeface="Arial"/>
              </a:rPr>
              <a:t>Metalurško-tehnološki fakultet :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00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c40000"/>
                </a:solidFill>
                <a:latin typeface="Arial"/>
              </a:rPr>
              <a:t>Institut za biologiju mora (Kotor):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00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c40000"/>
                </a:solidFill>
                <a:latin typeface="Arial"/>
              </a:rPr>
              <a:t>Građevinski fakultet: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00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c40000"/>
                </a:solidFill>
                <a:latin typeface="Arial"/>
              </a:rPr>
              <a:t>Fakultet primijenjene fizoterapije: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00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c40000"/>
                </a:solidFill>
                <a:latin typeface="Arial"/>
              </a:rPr>
              <a:t>Biotehnički fakultet: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00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c40000"/>
                </a:solidFill>
                <a:latin typeface="Arial"/>
              </a:rPr>
              <a:t>Fakultet za pomorstvo (Kotor):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00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c40000"/>
                </a:solidFill>
                <a:latin typeface="Arial"/>
              </a:rPr>
              <a:t>Filozofski fakultet (Nikšić):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24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24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70c0"/>
                </a:solidFill>
                <a:latin typeface="Arial"/>
              </a:rPr>
              <a:t>Univerzitet Mediteran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00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70c0"/>
                </a:solidFill>
                <a:latin typeface="Arial"/>
              </a:rPr>
              <a:t>Univerzitet Mediteran: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00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70c0"/>
                </a:solidFill>
                <a:latin typeface="Arial"/>
              </a:rPr>
              <a:t>Fakultet za poslovne studije: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00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70c0"/>
                </a:solidFill>
                <a:latin typeface="Arial"/>
              </a:rPr>
              <a:t>Fakultet za turizam (Bar):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00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Content Placeholder 2"/>
          <p:cNvSpPr/>
          <p:nvPr/>
        </p:nvSpPr>
        <p:spPr>
          <a:xfrm>
            <a:off x="4267080" y="1752480"/>
            <a:ext cx="48769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7547"/>
                </a:solidFill>
                <a:latin typeface="Arial"/>
              </a:rPr>
              <a:t>Un</a:t>
            </a:r>
            <a:r>
              <a:rPr b="0" lang="sr-Latn-CS" sz="2000" spc="-1" strike="noStrike">
                <a:solidFill>
                  <a:srgbClr val="ff7547"/>
                </a:solidFill>
                <a:latin typeface="Arial"/>
              </a:rPr>
              <a:t>iverzitet Donja Gorica: </a:t>
            </a:r>
            <a:r>
              <a:rPr b="1" lang="sr-Latn-CS" sz="2000" spc="-1" strike="noStrike">
                <a:solidFill>
                  <a:srgbClr val="ff7547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9d3c"/>
                </a:solidFill>
                <a:latin typeface="Arial"/>
                <a:ea typeface="Arial"/>
              </a:rPr>
              <a:t>Fakultet za politehniku: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9d3c"/>
                </a:solidFill>
                <a:latin typeface="Arial"/>
                <a:ea typeface="Arial"/>
              </a:rPr>
              <a:t>Fakultet za prehr. tehnologiju, bezbjednost hrane i ekologiju: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9d3c"/>
                </a:solidFill>
                <a:latin typeface="Arial"/>
                <a:ea typeface="Arial"/>
              </a:rPr>
              <a:t>Fakultet za informacione sisteme i tehnologije: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75"/>
              </a:spcBef>
              <a:buClr>
                <a:srgbClr val="cc33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b050"/>
                </a:solidFill>
                <a:latin typeface="Arial"/>
              </a:rPr>
              <a:t>Drugi fakulteti: </a:t>
            </a:r>
            <a:r>
              <a:rPr b="1" lang="sr-Latn-CS" sz="2000" spc="-1" strike="noStrike">
                <a:solidFill>
                  <a:srgbClr val="00b05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b050"/>
                </a:solidFill>
                <a:latin typeface="Arial"/>
                <a:ea typeface="Arial"/>
              </a:rPr>
              <a:t>Fakultet za menadž. u saobraćaju i komunikacijama (Berane):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b050"/>
                </a:solidFill>
                <a:latin typeface="Arial"/>
                <a:ea typeface="Arial"/>
              </a:rPr>
              <a:t>Fakultet za biznis i turizam (Budva):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262626"/>
                </a:solidFill>
                <a:latin typeface="Arial"/>
              </a:rPr>
              <a:t>Instituti/Dru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b4500"/>
                </a:solidFill>
                <a:latin typeface="Arial"/>
                <a:ea typeface="Arial"/>
              </a:rPr>
              <a:t>„</a:t>
            </a:r>
            <a:r>
              <a:rPr b="1" lang="sr-Latn-CS" sz="1600" spc="-1" strike="noStrike">
                <a:solidFill>
                  <a:srgbClr val="8b4500"/>
                </a:solidFill>
                <a:latin typeface="Arial"/>
                <a:ea typeface="Arial"/>
              </a:rPr>
              <a:t>13.jul“ A.D. Plantaže: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b4500"/>
                </a:solidFill>
                <a:latin typeface="Arial"/>
                <a:ea typeface="Arial"/>
              </a:rPr>
              <a:t>Institut za javno zdravlje: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b4500"/>
                </a:solidFill>
                <a:latin typeface="Arial"/>
                <a:ea typeface="Arial"/>
              </a:rPr>
              <a:t>Klinički centar Crne Gore: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b4500"/>
                </a:solidFill>
                <a:latin typeface="Arial"/>
                <a:ea typeface="Arial"/>
              </a:rPr>
              <a:t>Institut za naučna istr. i razvoj (Ulcinj):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b4500"/>
                </a:solidFill>
                <a:latin typeface="Arial"/>
                <a:ea typeface="Arial"/>
              </a:rPr>
              <a:t>Institut za crnu metalurgiju (Nikšić):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Flowchart: Manual Operation 4"/>
          <p:cNvSpPr/>
          <p:nvPr/>
        </p:nvSpPr>
        <p:spPr>
          <a:xfrm>
            <a:off x="1219320" y="380880"/>
            <a:ext cx="6553080" cy="914400"/>
          </a:xfrm>
          <a:prstGeom prst="flowChartManualOperation">
            <a:avLst/>
          </a:prstGeom>
          <a:solidFill>
            <a:srgbClr val="9c343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ffff"/>
                </a:solidFill>
                <a:latin typeface="Arial"/>
              </a:rPr>
              <a:t>Prijavljene institucije 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sr-Latn-RS" sz="2800" spc="-1" strike="noStrike">
                <a:solidFill>
                  <a:srgbClr val="ffffff"/>
                </a:solidFill>
                <a:latin typeface="Arial"/>
              </a:rPr>
              <a:t>osioci projekata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Rectangle 6"/>
          <p:cNvSpPr/>
          <p:nvPr/>
        </p:nvSpPr>
        <p:spPr>
          <a:xfrm>
            <a:off x="380880" y="1676520"/>
            <a:ext cx="3200400" cy="380880"/>
          </a:xfrm>
          <a:prstGeom prst="rect">
            <a:avLst/>
          </a:prstGeom>
          <a:solidFill>
            <a:srgbClr val="c4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Univerzitet Crne Gore: 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Rectangle 7"/>
          <p:cNvSpPr/>
          <p:nvPr/>
        </p:nvSpPr>
        <p:spPr>
          <a:xfrm>
            <a:off x="380880" y="5105520"/>
            <a:ext cx="3276720" cy="38088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Univerzitet Mediteran: 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Rectangle 8"/>
          <p:cNvSpPr/>
          <p:nvPr/>
        </p:nvSpPr>
        <p:spPr>
          <a:xfrm>
            <a:off x="4648320" y="1676520"/>
            <a:ext cx="3276360" cy="380880"/>
          </a:xfrm>
          <a:prstGeom prst="rect">
            <a:avLst/>
          </a:prstGeom>
          <a:solidFill>
            <a:srgbClr val="ff9d3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Univerzitet Donja Gorica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Rectangle 9"/>
          <p:cNvSpPr/>
          <p:nvPr/>
        </p:nvSpPr>
        <p:spPr>
          <a:xfrm>
            <a:off x="4648320" y="3657600"/>
            <a:ext cx="3276360" cy="380880"/>
          </a:xfrm>
          <a:prstGeom prst="rect">
            <a:avLst/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Drugi fakulteti: 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Rectangle 10"/>
          <p:cNvSpPr/>
          <p:nvPr/>
        </p:nvSpPr>
        <p:spPr>
          <a:xfrm>
            <a:off x="4648320" y="5105520"/>
            <a:ext cx="3276360" cy="380880"/>
          </a:xfrm>
          <a:prstGeom prst="rect">
            <a:avLst/>
          </a:prstGeom>
          <a:solidFill>
            <a:srgbClr val="6a4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Arial"/>
              </a:rPr>
              <a:t>Ostal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I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ustanove: 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0" name="Chart 3" descr=""/>
          <p:cNvPicPr/>
          <p:nvPr/>
        </p:nvPicPr>
        <p:blipFill>
          <a:blip r:embed="rId1"/>
          <a:stretch/>
        </p:blipFill>
        <p:spPr>
          <a:xfrm>
            <a:off x="225360" y="1444680"/>
            <a:ext cx="8925120" cy="5267160"/>
          </a:xfrm>
          <a:prstGeom prst="rect">
            <a:avLst/>
          </a:prstGeom>
          <a:ln w="0">
            <a:noFill/>
          </a:ln>
        </p:spPr>
      </p:pic>
      <p:sp>
        <p:nvSpPr>
          <p:cNvPr id="2491" name="Flowchart: Manual Operation 5"/>
          <p:cNvSpPr/>
          <p:nvPr/>
        </p:nvSpPr>
        <p:spPr>
          <a:xfrm>
            <a:off x="1219320" y="609480"/>
            <a:ext cx="6553080" cy="914400"/>
          </a:xfrm>
          <a:prstGeom prst="flowChartManualOperation">
            <a:avLst/>
          </a:prstGeom>
          <a:solidFill>
            <a:srgbClr val="9c343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ffff"/>
                </a:solidFill>
                <a:latin typeface="Arial"/>
              </a:rPr>
              <a:t>Statistik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sr-Latn-RS" sz="2800" spc="-1" strike="noStrike">
                <a:solidFill>
                  <a:srgbClr val="ffffff"/>
                </a:solidFill>
                <a:latin typeface="Arial"/>
              </a:rPr>
              <a:t>onkur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Aleksandra Crvenica</dc:creator>
  <dc:description/>
  <dc:language>en-US</dc:language>
  <cp:lastModifiedBy>Sasa Ivanovic</cp:lastModifiedBy>
  <dcterms:modified xsi:type="dcterms:W3CDTF">2014-04-05T06:18:30Z</dcterms:modified>
  <cp:revision>259</cp:revision>
  <dc:subject/>
  <dc:title>Slide 1</dc:title>
</cp:coreProperties>
</file>